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move the slide</a:t>
            </a:r>
            <a:endParaRPr b="0" lang="en-US" sz="4600" spc="-1" strike="noStrike">
              <a:solidFill>
                <a:srgbClr val="e7eacb"/>
              </a:solidFill>
              <a:latin typeface="Cambria"/>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5A55B-1000-4CB3-BA6E-C6B13E5E463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E296D-A901-41B6-96C5-479106362EC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93570-4495-4BC4-9CCC-91DF8015766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145AEFF9-CAE7-48DE-A299-1A741B00FC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D3A7F19-6F3A-42D1-8FB8-8BE804AB6E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D55FBF86-AE48-48FF-A66E-CB8878E810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369BB52A-BAF2-4A78-9B09-5C1BEE7BE9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CD95A96-8549-4134-BB82-45CB88CF34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1352033-2A91-43DC-A477-6E7CAD3BE1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0112D36-A491-4C1E-8F15-5B10D42F33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375EC27-BADE-4F70-878E-558F23F39C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67B9AD5-3CAE-4824-A2F2-F660527D8C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2DA555F2-6863-4EBD-BCB7-CB0CDE7738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8023CDEF-CE65-4D04-A9E6-EA0AA23647D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6DAE4DF2-DC3E-4D22-8888-05CAA348BA1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F0BE795E-0F47-4B05-BF3E-6ACEFC74423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9D2BC2A-4795-4518-8D92-981579A56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CD34C24-3526-44EC-8C90-9A7BF31D2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0C4D5AC-5D1C-409A-8E04-6DEBC2FA5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5019513-D02E-4533-8B24-E4CACA430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69C7A10-1565-4583-B8BB-2F7049114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7306E60-3842-4A36-B54B-477FBD6FB8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3E0036C-C231-4AAF-914A-4E88FEA70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9B2E886-BD6E-4B39-AC0E-C34E8EEDF0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1FD90B6-8BB1-4277-AB1B-B3DB53EAD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F964A7A-CB84-4B11-BECA-799612E2D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84D412-27B0-4BC1-9300-CF94044EB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240D75D-F31A-450A-98B2-7098F0BDFE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3139A16-50DC-405E-A54D-0A9AE8D354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827377-66D2-4F7E-B5D7-308E1996E8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EC0DD1-ED36-4A0C-991D-CF83FF6134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E3DC3A-A54E-4358-A566-120F320E8B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842B0D-7235-424F-9C07-667DFF26D7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F7B399-1EC3-4E15-A39A-1948C7946B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1E6A967B-B25B-46C4-B4A2-B121D54E64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A0FC0E-BCA0-40A5-B436-9E4C7701F8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7CA5BA-AFFB-4CF6-A09F-F7E5333233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833494-96F3-4C4C-B8B1-30BF4B8653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8E6B03-C8A0-471F-85E9-ACD5F88A48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0A56CC-715F-4F60-82B4-E5949096BC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818E9D-6DE1-4465-B302-F45640E4C8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EA5625-F41A-4CFB-B5EE-528DEAF2DC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4E859E9-1962-460F-B764-09F2FA5B9F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0AF8B87-CF7A-4750-9F6E-9BF8DE3655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E78ED1D-68B4-4022-B08D-5F06AA3D48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FC643115-CA35-475E-8F41-7A755EE8D2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D380090-6D7E-4343-B591-D494288158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A3E5EB5-5690-4E4C-BFAD-87F0AA0B4F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1A9F34F-452A-4697-9161-6D2636DB9F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3457B14-6DC5-4004-BA88-1CF177B453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8CAB7F8-2EE6-4097-BA3B-5052B73283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CD1B1E3-8F1C-4CB5-8AEC-AC468374E1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68A6E65-7281-43D9-939D-82AC77254D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00FB681-A089-44EE-A793-E2BF526DE1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7E20491-BB01-4738-9952-B85F48B6C0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78810D-5087-405F-848D-9252D50A8E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482E55A-2E50-4FAA-A0F5-14848595DD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BCE494-F53E-4130-A9C7-03FB1C504D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37358E-3C52-4D28-8DED-1A6D0E1C1D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9B628C-AF0A-44D9-9219-43511096DB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508EBC-7212-4A16-8D96-DBBF6F457C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61A314-71B4-4294-985C-AEDE747774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B5712C-FBDC-41D5-8E90-402889E640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7FD052-9140-45DF-861F-9EBEDE3A5B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E751FA-F6A1-4F48-A651-20D4BDB96D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B65BA5-4D32-418D-9BF9-F42877412C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BDF698-2012-42CE-B6FE-9FC9E55F2B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2213EB86-0618-45FE-841D-33BAEEC953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323CCD-F047-4FDF-8AE8-2649741031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72A776-E87E-41E4-9DFA-C84AAEB507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B31E24-3A26-4146-8CDE-55C3F3864B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BE7E0F-B045-4F1B-AD7D-02BCE44391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216CB7-7853-4936-87EB-06A186D434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373E09-8519-47F4-ABAC-7801D5212F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088127-F49B-40E2-A408-240A0BFC53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75B44C-11CE-4D44-BB42-1484FB28C7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BE71EB-3888-4FCF-A98C-1A2958290B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E7A09F-227E-4D45-A242-80B1BED29B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093D4C6-2C3B-4981-976F-248CE4BB53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5F2702-145D-487A-BA66-ED6EA9F3DB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D153FF-A724-441B-9013-2649D76E5E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9E980C-E114-4D21-BDF0-14D1D74AE5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B59537-3BB6-4CD9-87D4-4B61EA2891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921424-E998-46AE-A3C9-892A113F18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80D01E-4325-4291-9471-167BAF7199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960B8E-4752-4205-A6DC-F1180C4E31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136DD8-4FB7-4D16-9A39-FA84075264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2D3D03-23A2-4F7A-8592-09283E34D1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B6B88C-4930-45D6-BA3B-B1974587EE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2E9E6AC-6DF2-4677-8506-75C4869ECB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375860-309A-4C61-9EF3-EAE9836190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F7B21A-89ED-40F8-8250-200C931320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2CDAAB-E904-4DF4-B134-22C5CC72F9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A85794-1437-4149-AE90-AAEF3AA3C4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EACF8D-E8E9-4940-BFBD-7DB2FFCBED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C4C1F43A-428B-4DB0-B8BD-1C332C7302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E72EC345-AF96-448F-AA8C-8D02256BDC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2B022DC-3BD5-48E9-B96B-4BF75B3C1A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6879F7E5-AC20-42A4-9459-88E861E691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F7BA2F2-F30C-4CF5-AEE6-C0C9A45BBB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5C49EAD-EC8E-4D42-B462-D32B3789BA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46858F2-099D-4933-9A91-C8EF6D612E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99EDB67-BDDA-4F07-B885-28CB1F5A8D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5C12E35-6058-4A83-86B9-6EF04C1C8D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B7DACA0-1876-4EEE-A787-AE31C11FAF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1DE4601-CF6C-4310-9553-C362307C8F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1E800466-613A-455C-BD78-8DC7859A9C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3835780E-BFD1-40EE-B663-75D8E6EF46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93091BEF-3BA6-4AA2-9B1D-7F4E3770A4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19B5F671-2A6A-489E-A7F1-2788E7342B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Cambria"/>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mbr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095DDFA-3C87-412E-9B66-86DA3921283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7B5F3-2391-44C4-BC8C-EE8ECA8EB397}"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с двумя скругленными противолежащими углами 7"/>
          <p:cNvGrpSpPr/>
          <p:nvPr/>
        </p:nvGrpSpPr>
        <p:grpSpPr>
          <a:xfrm>
            <a:off x="158760" y="139680"/>
            <a:ext cx="8826480" cy="2517840"/>
            <a:chOff x="158760" y="139680"/>
            <a:chExt cx="8826480" cy="2517840"/>
          </a:xfrm>
        </p:grpSpPr>
        <p:pic>
          <p:nvPicPr>
            <p:cNvPr id="45" name="Прямоугольник с двумя скругленными противолежащими углами 7" descr=""/>
            <p:cNvPicPr/>
            <p:nvPr/>
          </p:nvPicPr>
          <p:blipFill>
            <a:blip r:embed="rId3"/>
            <a:stretch/>
          </p:blipFill>
          <p:spPr>
            <a:xfrm>
              <a:off x="158760" y="139680"/>
              <a:ext cx="8826480" cy="251784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51163-CEFC-4204-80E8-A2A6E095F914}"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89"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91"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9A3BE-236F-478E-AB54-2A8FC77D6F51}"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Прямоугольник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DF51-464C-4070-86D6-E444AA9EA63D}"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176"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78"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756D-6483-4BA4-BA44-0EC2DCE41D8C}"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21"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23" name="Прямоугольник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4" name="Прямоугольник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20547-41FA-4655-BC64-3D431B46C8A8}"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Прямоугольник с двумя скругленными противолежащими углами 6"/>
          <p:cNvGrpSpPr/>
          <p:nvPr/>
        </p:nvGrpSpPr>
        <p:grpSpPr>
          <a:xfrm>
            <a:off x="158760" y="139680"/>
            <a:ext cx="8820000" cy="6578640"/>
            <a:chOff x="158760" y="139680"/>
            <a:chExt cx="8820000" cy="6578640"/>
          </a:xfrm>
        </p:grpSpPr>
        <p:pic>
          <p:nvPicPr>
            <p:cNvPr id="267" name="Прямоугольник с двумя скругленными противолежащими углами 6" descr=""/>
            <p:cNvPicPr/>
            <p:nvPr/>
          </p:nvPicPr>
          <p:blipFill>
            <a:blip r:embed="rId3"/>
            <a:stretch/>
          </p:blipFill>
          <p:spPr>
            <a:xfrm>
              <a:off x="158760" y="139680"/>
              <a:ext cx="8820000" cy="657864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69" name="Прямоугольник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2976-E70D-49D2-96AA-DEB890DA1122}"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Прямоугольник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BCC9-320E-45B6-8764-34332B9FE7E8}"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Cambria"/>
              </a:rPr>
              <a:t>Click to edit the title text format</a:t>
            </a:r>
            <a:endParaRPr b="0" lang="en-US" sz="4600" spc="-1" strike="noStrike">
              <a:solidFill>
                <a:srgbClr val="e7eacb"/>
              </a:solidFill>
              <a:latin typeface="Cambria"/>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Click to edit the outline text format</a:t>
            </a:r>
            <a:endParaRPr b="0" lang="en-US" sz="3200" spc="-1" strike="noStrike">
              <a:solidFill>
                <a:srgbClr val="ffffff"/>
              </a:solidFill>
              <a:latin typeface="Cambria"/>
            </a:endParaRPr>
          </a:p>
          <a:p>
            <a:pPr lvl="1" marL="639720" indent="-228600">
              <a:buClr>
                <a:srgbClr val="b0ccb0"/>
              </a:buClr>
              <a:buSzPct val="9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cond Outline Level</a:t>
            </a:r>
            <a:endParaRPr b="0" lang="en-US" sz="3200" spc="-1" strike="noStrike">
              <a:solidFill>
                <a:srgbClr val="ffffff"/>
              </a:solidFill>
              <a:latin typeface="Cambria"/>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Third Outline Level</a:t>
            </a:r>
            <a:endParaRPr b="0" lang="en-US" sz="3200" spc="-1" strike="noStrike">
              <a:solidFill>
                <a:srgbClr val="ffffff"/>
              </a:solidFill>
              <a:latin typeface="Cambria"/>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ourth Outline Level</a:t>
            </a:r>
            <a:endParaRPr b="0" lang="en-US" sz="3200" spc="-1" strike="noStrike">
              <a:solidFill>
                <a:srgbClr val="ffffff"/>
              </a:solidFill>
              <a:latin typeface="Cambria"/>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Fifth Outline Level</a:t>
            </a:r>
            <a:endParaRPr b="0" lang="en-US" sz="3200" spc="-1" strike="noStrike">
              <a:solidFill>
                <a:srgbClr val="ffffff"/>
              </a:solidFill>
              <a:latin typeface="Cambria"/>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ixth Outline Level</a:t>
            </a:r>
            <a:endParaRPr b="0" lang="en-US" sz="3200" spc="-1" strike="noStrike">
              <a:solidFill>
                <a:srgbClr val="ffffff"/>
              </a:solidFill>
              <a:latin typeface="Cambria"/>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mbria"/>
              </a:rPr>
              <a:t>Seventh Outline Level</a:t>
            </a:r>
            <a:endParaRPr b="0" lang="en-US" sz="3200" spc="-1" strike="noStrike">
              <a:solidFill>
                <a:srgbClr val="ffffff"/>
              </a:solidFill>
              <a:latin typeface="Cambria"/>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E6BCC-C6D5-46CB-A920-9C916118200C}" type="slidenum">
              <a:rPr b="0" lang="uk-UA"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Rectangle 2" descr=""/>
          <p:cNvPicPr/>
          <p:nvPr/>
        </p:nvPicPr>
        <p:blipFill>
          <a:blip r:embed="rId1"/>
          <a:stretch/>
        </p:blipFill>
        <p:spPr>
          <a:xfrm>
            <a:off x="-182520" y="-2548080"/>
            <a:ext cx="9326520" cy="6937560"/>
          </a:xfrm>
          <a:prstGeom prst="rect">
            <a:avLst/>
          </a:prstGeom>
          <a:ln w="0">
            <a:noFill/>
          </a:ln>
        </p:spPr>
      </p:pic>
      <p:pic>
        <p:nvPicPr>
          <p:cNvPr id="402" name="Picture 3" descr=""/>
          <p:cNvPicPr/>
          <p:nvPr/>
        </p:nvPicPr>
        <p:blipFill>
          <a:blip r:embed="rId2"/>
          <a:stretch/>
        </p:blipFill>
        <p:spPr>
          <a:xfrm>
            <a:off x="541440" y="549360"/>
            <a:ext cx="3343320" cy="1871640"/>
          </a:xfrm>
          <a:prstGeom prst="rect">
            <a:avLst/>
          </a:prstGeom>
          <a:ln w="0">
            <a:noFill/>
          </a:ln>
        </p:spPr>
      </p:pic>
    </p:spTree>
  </p:cSld>
  <p:transition spd="slow">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611280" y="333360"/>
            <a:ext cx="8424720" cy="597528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Cambria"/>
              </a:rPr>
              <a:t>Мозкова</a:t>
            </a:r>
            <a:r>
              <a:rPr b="0" lang="ru-RU" sz="1900" spc="-1" strike="noStrike">
                <a:solidFill>
                  <a:srgbClr val="ffffff"/>
                </a:solidFill>
                <a:latin typeface="Cambria"/>
              </a:rPr>
              <a:t> (перша) фаза має складний рефлекторний механізм, який реалізується через ЦНС шляхом умовних і безумовних рефлексів. Фаза стимулюється виглядом, смаком або запахом їжі через холінергічну іннервацію блукаючого нерва. Секреція в цій фазі має невеликий об'єм (до 15% від стимульованої секреції). Основним механізмом стимуляції секреції є холінергичний вплив блукаючих нервів на М-холінорецептори панкреатоцитів. Панкреатичний сік, який виділяється при цьому, містить велику кількість ферментів.</a:t>
            </a:r>
            <a:endParaRPr b="0" lang="en-US" sz="19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Cambria"/>
              </a:rPr>
              <a:t>Шлункова</a:t>
            </a:r>
            <a:r>
              <a:rPr b="0" lang="ru-RU" sz="1900" spc="-1" strike="noStrike">
                <a:solidFill>
                  <a:srgbClr val="ffffff"/>
                </a:solidFill>
                <a:latin typeface="Cambria"/>
              </a:rPr>
              <a:t> (друга) фаза секреції має більш складні механізми та супроводжується виділенням близько 10% загальної стимульованої секреції. Настає у відповідь на розширення шлунка і також через вагальний холінергічний рефлекс. Панкреатичний сік має рідку консистенцію і містить невелику кількість ферментів.</a:t>
            </a:r>
            <a:endParaRPr b="0" lang="en-US" sz="19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Основний період панкреатичної секреції після приймання їжі виникає в </a:t>
            </a:r>
            <a:r>
              <a:rPr b="1" lang="ru-RU" sz="1900" spc="-1" strike="noStrike">
                <a:solidFill>
                  <a:srgbClr val="ffffff"/>
                </a:solidFill>
                <a:latin typeface="Cambria"/>
              </a:rPr>
              <a:t>інтестинальну</a:t>
            </a:r>
            <a:r>
              <a:rPr b="0" lang="ru-RU" sz="1900" spc="-1" strike="noStrike">
                <a:solidFill>
                  <a:srgbClr val="ffffff"/>
                </a:solidFill>
                <a:latin typeface="Cambria"/>
              </a:rPr>
              <a:t> фазу. Ця фаза відповідає за 70-80 % панкреатичної секреції та регулюється шляхом викиду секретину або холецистокініну (ХК). Секретин, який надходить в циркуляцію з ДПК, відповідає за секрецію бікарбонатів та води дуктальними клітинами ПЗ. ХК в основному відповідає за секрецію ензимів (протеаз) в ацинарних клітинах.</a:t>
            </a:r>
            <a:endParaRPr b="0" lang="en-US" sz="1900" spc="-1" strike="noStrike">
              <a:solidFill>
                <a:srgbClr val="ffffff"/>
              </a:solidFill>
              <a:latin typeface="Cambria"/>
            </a:endParaRPr>
          </a:p>
        </p:txBody>
      </p:sp>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02760" y="162000"/>
            <a:ext cx="8820360" cy="6696000"/>
          </a:xfrm>
          <a:prstGeom prst="rect">
            <a:avLst/>
          </a:prstGeom>
          <a:noFill/>
          <a:ln w="0">
            <a:noFill/>
          </a:ln>
        </p:spPr>
        <p:txBody>
          <a:bodyPr anchor="t">
            <a:normAutofit fontScale="97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Cambria"/>
              </a:rPr>
              <a:t>Панкреатичний сік містить ряд ферментів:</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1 Амілази – виділяються в активному стані, розщеплюють вуглеводи, викликають гідроліз крохмалю та перехід його в мальтозу.</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2 Ліпаза – виділяється в напівактивному стані, активатором є жовчні кислоти та солі кальцію – розщеплює жири на жирні кислоти і гліцерин.</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3 Протеази – протеолітичні ферменти, які розщеплюють білки до амінокислот: а) трипсиноген; б) карбопептидаза; в) колагеназа; г) дезнуклеаза; д) хімотрипсин.</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Інкреторна функція підшлункової залози забезпечує регуляцію водного обміну, бере участь у жировому обміні та регуляції кровообігу.</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Внутрішньосекреторна діяльність підшлункової залози полягає у виробленні гормонів. Основними з них є інсулин, соматостатин, глюкагон. Інкрет виробляється в острівцях Лангерганса, які розміщуються серед клітин паренхіми залози, більшою частиною в хвості і тілі, не мають протоків, виділяють інкрет безпосередньо в кров.</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А-клітини виробляють глюкагон. В-клітини є місцем синтезу та депонування інсуліну. </a:t>
            </a:r>
            <a:r>
              <a:rPr b="0" lang="en-US" sz="1900" spc="-1" strike="noStrike">
                <a:solidFill>
                  <a:srgbClr val="ffffff"/>
                </a:solidFill>
                <a:latin typeface="Rockwell"/>
              </a:rPr>
              <a:t>D-</a:t>
            </a:r>
            <a:r>
              <a:rPr b="0" lang="ru-RU" sz="1900" spc="-1" strike="noStrike">
                <a:solidFill>
                  <a:srgbClr val="ffffff"/>
                </a:solidFill>
                <a:latin typeface="Cambria"/>
              </a:rPr>
              <a:t>клітини продукують соматостатин.</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Основну роль в регуляції вуглеводного обміну виконує інсулін, який знижує рівень цукру в крові, сприяє відкладенню глікогену в печінці, поглинанню його тканинами та зменшенню ліпемії. Порушення продукції інсуліну викликає підвищення цукру в крові та развиток цукрового діабету. Глюкагон – антагоніст інсуліну. Він викликає розпад глікогену в печінці та виділення глюкози в кров і може бути другою причиною развитку діабету. Функція цих двох гормонів тонко координується. Їх секреція визначається рівнем цукру у крові. Таким чином, підшлункова залоза є складним життєво- важливим органом, патологічні зміни якого супроводжуються глибокими порушеннями травлення та обміну речовин.</a:t>
            </a:r>
            <a:endParaRPr b="0" lang="en-US" sz="1900" spc="-1" strike="noStrike">
              <a:solidFill>
                <a:srgbClr val="ffffff"/>
              </a:solidFill>
              <a:latin typeface="Cambria"/>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120600" y="333000"/>
            <a:ext cx="9036000" cy="648036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ffffff"/>
                </a:solidFill>
                <a:uFillTx/>
                <a:latin typeface="Cambria"/>
              </a:rPr>
              <a:t>Гострий панкреатит</a:t>
            </a:r>
            <a:endParaRPr b="0" lang="en-US" sz="20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u="sng">
                <a:solidFill>
                  <a:srgbClr val="ffffff"/>
                </a:solidFill>
                <a:uFillTx/>
                <a:latin typeface="Cambria"/>
              </a:rPr>
              <a:t>Гострий панкреатит (ГП)</a:t>
            </a:r>
            <a:r>
              <a:rPr b="0" lang="uk-UA" sz="2000" spc="-1" strike="noStrike">
                <a:solidFill>
                  <a:srgbClr val="ffffff"/>
                </a:solidFill>
                <a:latin typeface="Cambria"/>
              </a:rPr>
              <a:t> – первинно асептичне запалення демаркаційного характеру, в основі якого лежать процеси некробіозу панкреатоцитів, ферментної, оксидантної аутоагресії з наступним розвитком некрозу, дегенерації підшлункової залози (ПЗ), ураженням життєвоважливих органів і наступним приєднанням гнійної інфекції. В структурі гострої хірургічної патології органів черевної порожнини ГП стоить на третьому місці, поступаючись лише гострому апендициту та гострму холециститу Якщо на початку 70-х років частота деструктивних форм складала 5,3- 16,6%, то наприкінці 90-х - 30%. У 15-20% спостережень розвиток ГП носить деструктивний характер. При панкреонекрозі в 40-70% хворих відбувається інфікування вогнищ некротичної деструкції. Інфекційні ускладнення складають 80% причин смерті хворих з деструктивним панкреатитом. Етіологія і патогенез. Найчастіше ГП розвивається на фоні жовчнокам„яної хвороби, хронічного алкоголізму. Серед інших причин – травматичні ушкодження ПЗ, хірургічні втручання на ПЗ і органах біліопанкреато-дуоденальної зони, вживання різноманітних ліків і отрут, ряд тяжких інфекційних захворювань, паразитарні і пухлинні обструкції, а також вроджені аномалії розвитку протокової системи, атеросклеротичні ураження судинної системи ПЗ, гіперпаратиреоїдоз, деякі дисметаболічні порушення.</a:t>
            </a:r>
            <a:endParaRPr b="0" lang="en-US" sz="2000" spc="-1" strike="noStrike">
              <a:solidFill>
                <a:srgbClr val="ffffff"/>
              </a:solidFill>
              <a:latin typeface="Cambria"/>
            </a:endParaRPr>
          </a:p>
        </p:txBody>
      </p:sp>
    </p:spTree>
  </p:cSld>
  <p:transition spd="slow">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24000" y="404640"/>
            <a:ext cx="8820000" cy="6453360"/>
          </a:xfrm>
          <a:prstGeom prst="rect">
            <a:avLst/>
          </a:prstGeom>
          <a:noFill/>
          <a:ln w="0">
            <a:noFill/>
          </a:ln>
        </p:spPr>
        <p:txBody>
          <a:bodyPr anchor="t">
            <a:normAutofit fontScale="97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ambria"/>
              </a:rPr>
              <a:t>Найбільш тяжкі форми ГП розвиваються при поєднанні 3-х факторів. 1. Гострої внутрішньопротокової гіпертензії. 2. Гіперсекреції ацинарних клітин. 3.Внутрішньоканальцевої активації панкреатичних ферментів. Таким чином, причинні фактори ГП необхідно поділяти на дві основні групи: утруднення відтоку панкреатичного соку (внутрішньопротокова гіпертензія) і первинне ураження ацинарних клітин (первинно-ацинарна форма). В звязку с цим розглядают гіпертензійно - протоковий і первинноацинарний ГП. Гостра жовчно-панкреатична протокова гіпертензія і рефлюкс жовчі в протоки ПЗ виникають при блокаді фатерового сосочка, що розвивається при спазмі і дискінезії сфінктера Одді, холедохолітіазі, запальних і рубцевих звуженнях папіли та ін. Спазм сфінктера Одді може бути наслідком різних нервово-рефлекторних впливів з рецепторів гепато-гастро-дуоденальної зони. Травма цієї зони під час оперативних вручань на жовчовивідних шляхах, шлунку, ДПК, голівці ПЗ може закінчуватись виникненням гострого післяопераційного панкреатиту. Крім біліарно-панкреатичного рефлюксу причиною панкреатиту може бути дуодено-панкреатичний рефлюкс. Якщо в першому випадку панкреатичні ферменти активуються жовчю, то в другому активатором є ентерокіназа. Надходження дуоденального вмісту в панкреатичні протоки можливо при зіянні фатерового сосочка і підвищенні інтрадуоденального тиску. Підвищений тиск у ДПК може спостерігаться при дуоденостазі, механічній дуоденальній непрохідності, що викликана кільцеподібною ПЗ, рубцевим стенозом, пухлиною, виразковою хворобою шлунку, артеріомезентериальної непрохідністю і ін. Гостра панкреатична гіпертензія, як причина ГП, в умовах гіперсекреції розвивається при гострій чи хронічній непрохідності панкреатичних проток. Ці види непрохідності викликаються уродженими і набутими деформаціями і звуженнями, метаплазією епітелію, закупоркою протоки слизом, замазкою і каменями, а також стисненням їх поза- або внутрішньопанкреатичними утвореннями.</a:t>
            </a:r>
            <a:endParaRPr b="0" lang="en-US" sz="1700" spc="-1" strike="noStrike">
              <a:solidFill>
                <a:srgbClr val="ffffff"/>
              </a:solidFill>
              <a:latin typeface="Cambria"/>
            </a:endParaRPr>
          </a:p>
        </p:txBody>
      </p:sp>
    </p:spTree>
  </p:cSld>
  <p:transition spd="slow">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324000" y="259920"/>
            <a:ext cx="8820000" cy="6597720"/>
          </a:xfrm>
          <a:prstGeom prst="rect">
            <a:avLst/>
          </a:prstGeom>
          <a:noFill/>
          <a:ln w="0">
            <a:noFill/>
          </a:ln>
        </p:spPr>
        <p:txBody>
          <a:bodyPr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mbria"/>
              </a:rPr>
              <a:t>Причинними факторам первинно-ацинарного ГП, що діють в умовах нормального внутрішньопротокового тиску і викликають первинне ураження ацинарних клітин є: порушення кровообігу в ПЗ, алергія, метаболічні порушення, гормональні зрушення, різні токсичні впливи, інфекції і травма.</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mbria"/>
              </a:rPr>
              <a:t>Роль аліментарного фактора в походженні ГП може бути розглянута в 3-х аспектах: 1. Білки, жири, алкоголь і ін. викликають виражену секрецію панкреатичного соку, багатого білком і бідного бікарбонатами, що при неадекватному відтоку може служити причиною розвитку аліментарного панкреатиту. 2. Посилена секреторна діяльність ацинарних клітин при надмірних харчових навантаженнях чи подразненнях білководефіцитним харчуванні супроводжується незворотними ушкодженнями внутрішньоклітинних утворень і розвитком метаболічного панкреатиту. 3.</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Cambria"/>
              </a:rPr>
              <a:t>Надмірне вживання переважно білкової і жирної їжі викликає сенсибілізацію організму білковими метаболітами, що створює сприятливі умови для розвитку алергічного панкреатиту. У деяких випадках ГП з'являється в жінок під час вагітності або в ранньому післяпологовому періоді. Це, крім порушення функцій жовчовивідної системи, зумовлено ще і гормональною перебудовою організму в даному періоді, що протікає з явищами токсикозу, і порушенням кровопостачання в ПЗ. Явища гострого ферментного ендотоксикозу, за рахунок внутрішньопротокової гіпертензії, порушенням цілосності ацинарних протоків і ухиленням панкреатичних ферментів у циркуляцію, призводять до розвитку вираженого больового абдомінального синдрому і синдрому поліорганної недостатньості.</a:t>
            </a:r>
            <a:endParaRPr b="0" lang="en-US" sz="1800" spc="-1" strike="noStrike">
              <a:solidFill>
                <a:srgbClr val="ffffff"/>
              </a:solidFill>
              <a:latin typeface="Cambria"/>
            </a:endParaRPr>
          </a:p>
        </p:txBody>
      </p:sp>
    </p:spTree>
  </p:cSld>
  <p:transition spd="slow">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107640" y="115920"/>
            <a:ext cx="8785080" cy="6408720"/>
          </a:xfrm>
          <a:prstGeom prst="rect">
            <a:avLst/>
          </a:prstGeom>
          <a:noFill/>
          <a:ln w="0">
            <a:noFill/>
          </a:ln>
        </p:spPr>
        <p:txBody>
          <a:bodyPr anchor="t">
            <a:normAutofit fontScale="93000"/>
          </a:bodyPr>
          <a:p>
            <a:pPr marL="271440" indent="-271440">
              <a:lnSpc>
                <a:spcPct val="70000"/>
              </a:lnSpc>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marL="271440" indent="-271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Спланхнічна система одна з перших реагує на зниження серцевого викиду, гіповолемію, внутрішньолегеневе і периферичне шунтування. Зменшується інтестинальна перфузія, печінковий кровотік, порушується бар„єрна, моторна, нутрітивна функція кишечника з послідуючою мікробною транслокацією і розвитком ентеротоксикозу, тобто неконтрольованої активації клітин імунної системи, внаслідок якої зростає утворення туморонекротичних факторів, інтерлейкінів та інших цитокінів. Знижується роль печінки у процесах затримки метаболітів, цитокінів, бактерій, токсинів. Токсини стимулюють утворення зіркоподібними ретикулоендотеліоцитами цитокінів, активують лейкоцити, їх адгезію і трансміграцію, що призводить до пошкодження ендотелію судин, порушення мікроциркуляції і метаболізму у різних органах.</a:t>
            </a:r>
            <a:endParaRPr b="0" lang="en-US" sz="2000" spc="-1" strike="noStrike">
              <a:solidFill>
                <a:srgbClr val="ffffff"/>
              </a:solidFill>
              <a:latin typeface="Cambria"/>
            </a:endParaRPr>
          </a:p>
          <a:p>
            <a:pPr marL="271440" indent="-271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Панкреатична інфекція є причиною смерті 40 – 47% хворих панкреонекрозом. При бактеріоскопічному дослідженні гнійників й інфікованих секвестрів ПЗ у більшості випадків виявляють аеробноанаеробну мікстінфекцію. Серед грампозитивних мікроорганізмів виявляють: </a:t>
            </a:r>
            <a:r>
              <a:rPr b="0" lang="en-US" sz="2000" spc="-1" strike="noStrike">
                <a:solidFill>
                  <a:srgbClr val="ffffff"/>
                </a:solidFill>
                <a:latin typeface="Rockwell"/>
              </a:rPr>
              <a:t>Staphylococcus aureus – 44,5%, Enterjcoccus faecealis-22,2%, Staphylococcus epidermidis-11,1%, Streptococcus -11,1%, Streptococcus pneumoniae-11,1%. </a:t>
            </a:r>
            <a:r>
              <a:rPr b="0" lang="ru-RU" sz="2000" spc="-1" strike="noStrike">
                <a:solidFill>
                  <a:srgbClr val="ffffff"/>
                </a:solidFill>
                <a:latin typeface="Cambria"/>
              </a:rPr>
              <a:t>Грамнегативна флора представлена: </a:t>
            </a:r>
            <a:r>
              <a:rPr b="0" lang="en-US" sz="2000" spc="-1" strike="noStrike">
                <a:solidFill>
                  <a:srgbClr val="ffffff"/>
                </a:solidFill>
                <a:latin typeface="Rockwell"/>
              </a:rPr>
              <a:t>Enterobacter spp. – 37,5% Pseudomonas aeruginosa-37,5%, Proteus mirabilis-12,5%, Escherichia coli-12,5%. </a:t>
            </a:r>
            <a:endParaRPr b="0" lang="en-US" sz="2000" spc="-1" strike="noStrike">
              <a:solidFill>
                <a:srgbClr val="ffffff"/>
              </a:solidFill>
              <a:latin typeface="Cambria"/>
            </a:endParaRPr>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250560" y="404640"/>
            <a:ext cx="7993080" cy="540072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Класифікація гострого панкреатиту, морфологічна характеристика і прогноз клінічного перебігу.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ambria"/>
              </a:rPr>
              <a:t>Міжнародна класифікація хвороб (МКХ – 10):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1. Гострий панкреатит, набрякова форма Шифр К85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2. Гострий панкреатит, деструктивна форма Шифр К85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ffffff"/>
                </a:solidFill>
                <a:uFillTx/>
                <a:latin typeface="Cambria"/>
              </a:rPr>
              <a:t>Форми гострого панкреатиту.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I. Набряковий (інтерстіціальний) панкреатит (серозний, серозногеморагічний, геморагічний).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II. Гострий стерильний некротичний панкреатит: - за характером некротичних ураженнь (жировий, геморагічний, змішаний). - за розмірами ураження (дрібновогнещевий, крупновогнещевий, субтотально-тотальний).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Ш. Гострий інфільтративно-некротичний панкреатит.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ІV. Гнійно-некротичний панкреатит. </a:t>
            </a:r>
            <a:endParaRPr b="0" lang="en-US" sz="2200" spc="-1" strike="noStrike">
              <a:solidFill>
                <a:srgbClr val="ffffff"/>
              </a:solidFill>
              <a:latin typeface="Cambr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p:txBody>
      </p:sp>
    </p:spTree>
  </p:cSld>
  <p:transition spd="slow">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179280" y="188640"/>
            <a:ext cx="8856720" cy="6840360"/>
          </a:xfrm>
          <a:prstGeom prst="rect">
            <a:avLst/>
          </a:prstGeom>
          <a:noFill/>
          <a:ln w="0">
            <a:noFill/>
          </a:ln>
        </p:spPr>
        <p:txBody>
          <a:bodyPr anchor="t">
            <a:normAutofit fontScale="97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Cambria"/>
              </a:rPr>
              <a:t>Класифікація гострого панкреатиту, яка прийнята в Атланті (США, 1992). </a:t>
            </a:r>
            <a:endParaRPr b="0" lang="en-US" sz="1500" spc="-1" strike="noStrike">
              <a:solidFill>
                <a:srgbClr val="ffffff"/>
              </a:solidFill>
              <a:latin typeface="Cambria"/>
            </a:endParaRPr>
          </a:p>
          <a:p>
            <a:pPr>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I. </a:t>
            </a:r>
            <a:r>
              <a:rPr b="0" lang="ru-RU" sz="1500" spc="-1" strike="noStrike">
                <a:solidFill>
                  <a:srgbClr val="ffffff"/>
                </a:solidFill>
                <a:latin typeface="Cambria"/>
              </a:rPr>
              <a:t>За морфологічними формами: Гостре накопичення рідини, або гострий інтерстиціальний панкреатит відрізняється накопиченням в тканині і (або) навколо ПЗ ексудату, який містить значну кількість ферментів, без тенденції до утворення грануляційної капсули, виникає на протязі 4-х тижнів від початку ГП. Гостре накопичення рідини відмічається у 2,7% при супутньому холециститі, холангіті або при крупно-вогнищевому панкреонекрозі. </a:t>
            </a:r>
            <a:endParaRPr b="0" lang="en-US" sz="1500" spc="-1" strike="noStrike">
              <a:solidFill>
                <a:srgbClr val="ffffff"/>
              </a:solidFill>
              <a:latin typeface="Cambria"/>
            </a:endParaRPr>
          </a:p>
          <a:p>
            <a:pPr>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II. </a:t>
            </a:r>
            <a:r>
              <a:rPr b="0" lang="ru-RU" sz="1500" spc="-1" strike="noStrike">
                <a:solidFill>
                  <a:srgbClr val="ffffff"/>
                </a:solidFill>
                <a:latin typeface="Cambria"/>
              </a:rPr>
              <a:t>За тяжкістю клінічного перебігу: Легка форма, яка протікає з мінімальними порушеннями функції життєво-важливих органів і легко ліквідовується. Основними морфологічними особливостями цієх форми є – інтерстиціальний набряк. Мікроскопічно – лейкоцитарна, в основному нейтрофільна імбібіція ПЗ. Тяжка форма, при якій 20 – 25% випадків захворювання супроводжується розвитком ускладнень. У ранні терміни – поліорганна недостатність, у пізні – панкреатична інфекція, яка супроводжується некрозом більше 30% об„єму тканини ПЗ. Макроскопічно відмічаються поширені некрози парапанкреатичної клітковини з мутним геморагічним випотом у черевну порожнину. Мікроскопічно – зливні зони некрозів паренхіми органу, некроз судинних стінок, вогнища крововиливів і розрив панкреатичних протоків. Важливою особливістю також є наявність жирових некрозів всередені ПЗ і виражені явища запалення. Стерильний панкреонекроз – дифузна або обмежена зона девіталізованої паренхіми ПЗ, найчастіше з супутнім некрозом заочеревинної клітковини і тенденцією до інфікування. Мікроскопічно має місце пошкодження паренхіматозної сітки капілярів ПЗ, ацінарних і острівкових клітин, протокової системи з перилобулярними некрозами. </a:t>
            </a:r>
            <a:endParaRPr b="0" lang="en-US" sz="1500" spc="-1" strike="noStrike">
              <a:solidFill>
                <a:srgbClr val="ffffff"/>
              </a:solidFill>
              <a:latin typeface="Cambria"/>
            </a:endParaRPr>
          </a:p>
          <a:p>
            <a:pPr>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I</a:t>
            </a:r>
            <a:r>
              <a:rPr b="0" lang="ru-RU" sz="1500" spc="-1" strike="noStrike">
                <a:solidFill>
                  <a:srgbClr val="ffffff"/>
                </a:solidFill>
                <a:latin typeface="Cambria"/>
              </a:rPr>
              <a:t>ІІ. Інфікований панкреонекроз – розповсюдженя гнійнонекротичних ураженнь тканини ПЗ і (або) перипанкреатичної клітковини з наявністю у них патогенних мікроорганізмів у кількості 105 – 109 на 1 г тканини, яке виникає внаслідок інфікування девіталізованих тканин, причому накопичення гною не спостерігається. Інфікований панкреонекроз найчастіше виникає у ранні терміни захворювання і характеризується розвитком тяжких ускладнень: респіраторного дистрес-синдрому, гострої ниркової недостатності, коагулопатії, які становлять безпосередню загрозу для життя хворого. Інфікований панкреонекроз виникає в 5 – 10% хворих на ГП. Смертність при цьому у 3 рази вища, ніж при стерильному панкреонекрозі і становить 15 – 40%. </a:t>
            </a:r>
            <a:endParaRPr b="0" lang="en-US" sz="1500" spc="-1" strike="noStrike">
              <a:solidFill>
                <a:srgbClr val="ffffff"/>
              </a:solidFill>
              <a:latin typeface="Cambria"/>
            </a:endParaRPr>
          </a:p>
          <a:p>
            <a:pPr>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Cambria"/>
              </a:rPr>
              <a:t>І</a:t>
            </a:r>
            <a:r>
              <a:rPr b="0" lang="en-US" sz="1500" spc="-1" strike="noStrike">
                <a:solidFill>
                  <a:srgbClr val="ffffff"/>
                </a:solidFill>
                <a:latin typeface="Rockwell"/>
              </a:rPr>
              <a:t>V. </a:t>
            </a:r>
            <a:r>
              <a:rPr b="0" lang="ru-RU" sz="1500" spc="-1" strike="noStrike">
                <a:solidFill>
                  <a:srgbClr val="ffffff"/>
                </a:solidFill>
                <a:latin typeface="Cambria"/>
              </a:rPr>
              <a:t>Гостра несправжня кіста ПЗ – обмежене псевдокапсулою ( стінками навколишних органів) накопичення панкреатичного соку в ПЗ або парапанкреатичній клітковині, яке виникає не раніше 4-х тижнів від моменту захворювання. Кіста вважається гострою на протязі 2 – 3 місяців з моменту захворювання. </a:t>
            </a:r>
            <a:endParaRPr b="0" lang="en-US" sz="1500" spc="-1" strike="noStrike">
              <a:solidFill>
                <a:srgbClr val="ffffff"/>
              </a:solidFill>
              <a:latin typeface="Cambria"/>
            </a:endParaRPr>
          </a:p>
          <a:p>
            <a:pPr>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Rockwell"/>
              </a:rPr>
              <a:t>V. </a:t>
            </a:r>
            <a:r>
              <a:rPr b="0" lang="ru-RU" sz="1500" spc="-1" strike="noStrike">
                <a:solidFill>
                  <a:srgbClr val="ffffff"/>
                </a:solidFill>
                <a:latin typeface="Cambria"/>
              </a:rPr>
              <a:t>Абсцес ПЗ – обмежене, більше 5 мм в діаметрі накопичення гною в середині або навколо ПЗ, яке утворюється внаслідок розплавлення некротичних тканин або вторинного інфікування несправжньої кісти. Частіше виникає в пізні терміни захворювання ГП. Абсцес ПЗ має відносно сприятливий прогноз.</a:t>
            </a:r>
            <a:endParaRPr b="0" lang="en-US" sz="1500" spc="-1" strike="noStrike">
              <a:solidFill>
                <a:srgbClr val="ffffff"/>
              </a:solidFill>
              <a:latin typeface="Cambria"/>
            </a:endParaRPr>
          </a:p>
        </p:txBody>
      </p:sp>
    </p:spTree>
  </p:cSld>
  <p:transition spd="slow">
    <p:push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539640" y="333360"/>
            <a:ext cx="7128000" cy="4751280"/>
          </a:xfrm>
          <a:prstGeom prst="rect">
            <a:avLst/>
          </a:prstGeom>
          <a:noFill/>
          <a:ln w="0">
            <a:noFill/>
          </a:ln>
        </p:spPr>
        <p:txBody>
          <a:bodyPr anchor="t">
            <a:normAutofit fontScale="9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Cambria"/>
              </a:rPr>
              <a:t>Ускладнення гострого панкреатиту.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 </a:t>
            </a:r>
            <a:r>
              <a:rPr b="0" lang="ru-RU" sz="2400" spc="-1" strike="noStrike">
                <a:solidFill>
                  <a:srgbClr val="ffffff"/>
                </a:solidFill>
                <a:latin typeface="Cambria"/>
              </a:rPr>
              <a:t>Перипанкреатичний інфільтрат.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I. </a:t>
            </a:r>
            <a:r>
              <a:rPr b="0" lang="ru-RU" sz="2400" spc="-1" strike="noStrike">
                <a:solidFill>
                  <a:srgbClr val="ffffff"/>
                </a:solidFill>
                <a:latin typeface="Cambria"/>
              </a:rPr>
              <a:t>Інфікований панкреонекроз.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II. </a:t>
            </a:r>
            <a:r>
              <a:rPr b="0" lang="ru-RU" sz="2400" spc="-1" strike="noStrike">
                <a:solidFill>
                  <a:srgbClr val="ffffff"/>
                </a:solidFill>
                <a:latin typeface="Cambria"/>
              </a:rPr>
              <a:t>Панкреатогенний абсцес.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V. </a:t>
            </a:r>
            <a:r>
              <a:rPr b="0" lang="ru-RU" sz="2400" spc="-1" strike="noStrike">
                <a:solidFill>
                  <a:srgbClr val="ffffff"/>
                </a:solidFill>
                <a:latin typeface="Cambria"/>
              </a:rPr>
              <a:t>Псевдокіста (стерильна, інфікована).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V.</a:t>
            </a:r>
            <a:r>
              <a:rPr b="0" lang="ru-RU" sz="2400" spc="-1" strike="noStrike">
                <a:solidFill>
                  <a:srgbClr val="ffffff"/>
                </a:solidFill>
                <a:latin typeface="Cambria"/>
              </a:rPr>
              <a:t>Перитоніт: ферментативний (абактериальний), бактеріальний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VI.</a:t>
            </a:r>
            <a:r>
              <a:rPr b="0" lang="ru-RU" sz="2400" spc="-1" strike="noStrike">
                <a:solidFill>
                  <a:srgbClr val="ffffff"/>
                </a:solidFill>
                <a:latin typeface="Cambria"/>
              </a:rPr>
              <a:t>Септична флегмона заочеревинної клітковини (парапанкреатичної, параколітичної, тазової).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VII. </a:t>
            </a:r>
            <a:r>
              <a:rPr b="0" lang="ru-RU" sz="2400" spc="-1" strike="noStrike">
                <a:solidFill>
                  <a:srgbClr val="ffffff"/>
                </a:solidFill>
                <a:latin typeface="Cambria"/>
              </a:rPr>
              <a:t>Механічна жовтяниця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VIII. </a:t>
            </a:r>
            <a:r>
              <a:rPr b="0" lang="ru-RU" sz="2400" spc="-1" strike="noStrike">
                <a:solidFill>
                  <a:srgbClr val="ffffff"/>
                </a:solidFill>
                <a:latin typeface="Cambria"/>
              </a:rPr>
              <a:t>Арозивна кровотеча </a:t>
            </a:r>
            <a:endParaRPr b="0" lang="en-US" sz="2400" spc="-1" strike="noStrike">
              <a:solidFill>
                <a:srgbClr val="ffffff"/>
              </a:solidFill>
              <a:latin typeface="Cambri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X. </a:t>
            </a:r>
            <a:r>
              <a:rPr b="0" lang="ru-RU" sz="2400" spc="-1" strike="noStrike">
                <a:solidFill>
                  <a:srgbClr val="ffffff"/>
                </a:solidFill>
                <a:latin typeface="Cambria"/>
              </a:rPr>
              <a:t>Внутрішні і зовнішні біліо-дигестивні нориці. </a:t>
            </a:r>
            <a:endParaRPr b="0" lang="en-US" sz="2400" spc="-1" strike="noStrike">
              <a:solidFill>
                <a:srgbClr val="ffffff"/>
              </a:solidFill>
              <a:latin typeface="Cambria"/>
            </a:endParaRPr>
          </a:p>
        </p:txBody>
      </p:sp>
    </p:spTree>
  </p:cSld>
  <p:transition spd="slow">
    <p:push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179280" y="188640"/>
            <a:ext cx="8964720" cy="6840360"/>
          </a:xfrm>
          <a:prstGeom prst="rect">
            <a:avLst/>
          </a:prstGeom>
          <a:noFill/>
          <a:ln w="0">
            <a:noFill/>
          </a:ln>
        </p:spPr>
        <p:txBody>
          <a:bodyPr anchor="t">
            <a:normAutofit fontScale="97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ffffff"/>
                </a:solidFill>
                <a:latin typeface="Cambria"/>
              </a:rPr>
              <a:t>Для полегшення вибору тактики лікування, об‟єму інфузійонної терапії і для правильної інтерпретації форми панкреатиту необхідно виділяти легкий, середній і тяжкий ступен інтоксикації. </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ffffff"/>
                </a:solidFill>
                <a:latin typeface="Cambria"/>
              </a:rPr>
              <a:t>Легкий ступінь, що зустрічається звичайно при серозному набряку ПЗ, характеризується задовільним загальним станом хворого, помірними болями в епігастрії, нудотою, одноразовою блювотою, відсутністю симптомів подразнення очеревини, незміненим кольором шкірних покривів, частотою пульсу в межах 88-90 за хвилину, нормальним чи злегка підвищеним АТ, високими цифрами амілази, невеликою активністю трипсину і ліпази, збереженим чи помірно зниженим ОЦК (дефіцит 7-15%), помірним підвищення лейкоцитів крові, субфебрильною температурою. </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ffffff"/>
                </a:solidFill>
                <a:latin typeface="Cambria"/>
              </a:rPr>
              <a:t>Середній ступінь інтоксикації спостерігається при дрібновогнещевому некрозі залози і проявляється болями в епігастрії, що не зникають при застосуванні спазмолітиків і анальгетиків, блідістю шкірних покривів, повторною блювотою, напруженням м'язів у епігастральной області, частотою пульсу до 100-110 за хвилину, падінням АТ, підвищенням периферійного і зниженням ЦВТ, високими цифрами амілази, ранньою високою активністю тріпсину і ліпази, зниженням рівня кальцію і підвищеним вмістом сіалових кислот, зменшенням ОЦК, зниженням діурезу, підйомом температури тіла до 38оС. </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900" spc="-1" strike="noStrike">
                <a:solidFill>
                  <a:srgbClr val="ffffff"/>
                </a:solidFill>
                <a:latin typeface="Cambria"/>
              </a:rPr>
              <a:t>Тяжка ступінь інтоксикації виникає при розповсюдженому некрозі залози і відрізняється тяжким загальним станом хворого, жорстокими болями в епігастральній області, болісною блювотою, ціанотичною шкірою, нерідко жовтяницею, появою симптомів перитоніту, частотою пульсу понад 120 за хвилину, падінням рівня АТ і ЦВТ, зниженням амілази, активності трипсину і ліпази, рівня кальцію, низьким діурезом, аж до повної анурії, різким зниженням ОЦК (дефіцит 30-50%), високою температурою, значним порушенням функції серця, печінки, легень, нирок (поліорганна недостатність). </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mbria"/>
            </a:endParaRPr>
          </a:p>
        </p:txBody>
      </p:sp>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Rectangle 2" descr=""/>
          <p:cNvPicPr/>
          <p:nvPr/>
        </p:nvPicPr>
        <p:blipFill>
          <a:blip r:embed="rId1"/>
          <a:stretch/>
        </p:blipFill>
        <p:spPr>
          <a:xfrm>
            <a:off x="457200" y="-73080"/>
            <a:ext cx="8626320" cy="1792440"/>
          </a:xfrm>
          <a:prstGeom prst="rect">
            <a:avLst/>
          </a:prstGeom>
          <a:ln w="0">
            <a:noFill/>
          </a:ln>
        </p:spPr>
      </p:pic>
      <p:sp>
        <p:nvSpPr>
          <p:cNvPr id="404" name=""/>
          <p:cNvSpPr txBox="1"/>
          <p:nvPr/>
        </p:nvSpPr>
        <p:spPr>
          <a:xfrm>
            <a:off x="457200" y="1646280"/>
            <a:ext cx="8229600" cy="4525920"/>
          </a:xfrm>
          <a:prstGeom prst="rect">
            <a:avLst/>
          </a:prstGeom>
          <a:noFill/>
          <a:ln w="0">
            <a:noFill/>
          </a:ln>
        </p:spPr>
        <p:txBody>
          <a:bodyPr anchor="t">
            <a:normAutofit fontScale="94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1. Анатомо-фізіологічні особливості будови та функціонування підшлункової залози.</a:t>
            </a:r>
            <a:endParaRPr b="0" lang="en-US" sz="2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2. Етіологія та патогонез гострого панкреатиту.</a:t>
            </a:r>
            <a:endParaRPr b="0" lang="en-US" sz="2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3. Клінічна картина гострого панкреатиту . Класифікація.</a:t>
            </a:r>
            <a:endParaRPr b="0" lang="en-US" sz="2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4. Діагностика та лікування гострого панкреатиту.</a:t>
            </a:r>
            <a:endParaRPr b="0" lang="en-US" sz="2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5. Етіологія та патогонез хронічного панкреатиту.</a:t>
            </a:r>
            <a:endParaRPr b="0" lang="en-US" sz="2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6. Клінічна картина хронічного панкреатиту . Класифікація.</a:t>
            </a:r>
            <a:endParaRPr b="0" lang="en-US" sz="2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7. Діагностика та лікування хронічного панкреатиту.</a:t>
            </a:r>
            <a:endParaRPr b="0" lang="en-US" sz="2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700" spc="-1" strike="noStrike">
                <a:solidFill>
                  <a:srgbClr val="ffffff"/>
                </a:solidFill>
                <a:latin typeface="Cambria"/>
              </a:rPr>
              <a:t>8. Ускладнення хронічного панкреатиту. Їх класифікація, діагностика та лікування.</a:t>
            </a:r>
            <a:endParaRPr b="0" lang="en-US" sz="2700" spc="-1" strike="noStrike">
              <a:solidFill>
                <a:srgbClr val="ffffff"/>
              </a:solidFill>
              <a:latin typeface="Cambria"/>
            </a:endParaRPr>
          </a:p>
          <a:p>
            <a:pPr>
              <a:lnSpc>
                <a:spcPct val="80000"/>
              </a:lnSpc>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mbria"/>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107640" y="189000"/>
            <a:ext cx="9217080" cy="691200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u="sng">
                <a:solidFill>
                  <a:srgbClr val="ffffff"/>
                </a:solidFill>
                <a:uFillTx/>
                <a:latin typeface="Cambria"/>
              </a:rPr>
              <a:t>Клініка.</a:t>
            </a:r>
            <a:r>
              <a:rPr b="0" lang="ru-RU" sz="1700" spc="-1" strike="noStrike">
                <a:solidFill>
                  <a:srgbClr val="ffffff"/>
                </a:solidFill>
                <a:latin typeface="Cambria"/>
              </a:rPr>
              <a:t> Клінічні прояви ГП залежать від багатьох факторів – від форми і періоду захворювання, ступеня інтоксикації, наявності і характеру ускладнень і супутніх захворювань. Найбільш постійним симптомом ГП є інтенсивний біль, як правило, виражений в області епігастрію, по ходу ПЗ, що виникає раптово, з'являється нерідко після харчового перевантаження, часто ірадіює в спину, у праву, ліву чи обидві лопатки, лівий реберно-хребетний кут, ліве надпліччья. Іноді біль наростає поступово, має схваткоподібний характер і не дуже інтенсивний. Другим за частотою (80-92% хворих) симптомом ГП є повторна, що не приносить полегшення блювота, яка звичайно з'являється відразу ж за болем (але може і попереджати його) і супроводжується, як правило, постійною нудотою. Температура тіла спочатку нормальна чи субфебрільна. Характерні “ножиці” – відставання температури тіла від частоти пульсу. У діагностиці ГП багато клініцистів велике значення додають зміні кольору шкірних покривів. Жовтяниця на початку захворювання зустрічається рідко. Частіше характерна блідість шкірних покривів. Пізніше з‟являється акро- і загальний ціаноз, які зумовлені порушенням зовнішнього дихання, токсичним ураженням капілярів і характерний для тяжких форм панкреатиту. Тому зміни забарвення шкірних покровів завжди служить поганою прогностичною ознакою. </a:t>
            </a:r>
            <a:endParaRPr b="0" lang="en-US" sz="1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ambria"/>
              </a:rPr>
              <a:t>Визначаються наступні симптоми: Грюнвальду (петехії біляпупкової ділянки); Кюлєна (жовто-ціанотичне забарвлення біляпупкової ділянки); Мондора (фіалетові пльями на шкірі обличчя та спини). Сухість язика при ГП, як і при інших гострих хірургічних захворюваннях живота, характеризує ступінь дегідратації організму. Живіт здутий тільки в епігастральної ділянці, по ходу попереково-ободової кишки (симптом Бонде), а пізніше – на всьому протязі. Напруження м'язів черевної стінки спочатку локалізовано лише в проекції ПЗ (симптом Керта). Участь у захисній реакції м'язів усього живота свідчить про ускладнення панкреатиту ферментативним, а потім і гнійним перитонітом, позитивний симптом Щоткина-Блюмберга. Симптом Грекова-Ортнера підтверджує участь жовчного міхура в патологічному процесі і буває позитивним приблизно у третини хворих. </a:t>
            </a:r>
            <a:endParaRPr b="0" lang="en-US" sz="17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mbria"/>
            </a:endParaRPr>
          </a:p>
        </p:txBody>
      </p:sp>
    </p:spTree>
  </p:cSld>
  <p:transition spd="slow">
    <p:push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179280" y="189000"/>
            <a:ext cx="8569440" cy="6408720"/>
          </a:xfrm>
          <a:prstGeom prst="rect">
            <a:avLst/>
          </a:prstGeom>
          <a:noFill/>
          <a:ln w="0">
            <a:noFill/>
          </a:ln>
        </p:spPr>
        <p:txBody>
          <a:bodyPr anchor="t">
            <a:normAutofit fontScale="97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Cambria"/>
              </a:rPr>
              <a:t>При дослідженні периферійної крові виявляється збільшення числа лейкоцитів і зрушення формули білої крові вліво та лімфопенія. Значно рідше виникають зміни з боку червоної крові. Анемія пов‟язана з виходом еритроцитів у інтрестиціальний простір при збільшенні проникності судинної стінки, їхнім руйнуванням під впливом протеолітичних ферментів. У хворих знижується добовий діурез, що свідчить за наявність інтоксикації. У сечі виявляється протеінурія, мікрогематурія, ціліндрурія і інші патологічні домішки. Особливості клінічного перебігу різноманітних форм ГП: 1. Гострий інтерстиціальний панкреатит характеризується швидким перебігом захворювання</a:t>
            </a: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Cambria"/>
              </a:rPr>
              <a:t>Клінічні прояви набряку залози звичайно зникають протягом 3-7, а гострі патоморфологічні зміни – 10-14 днів. У більшості випадків при набряку спостерігається більш легкий перебіг хвороби, відносно слабка виразність місцевих ознак захворювання. Больовий синдром і блювота менш виражені і швидше проходять під впливом консервативного лікування, картина змін з боку серцево-судинної системи, печінки, нирок незначна. Відсутні виражені обмінні порушення і рідко виникають реактивні зміни з боку грудної порожнини (порушення функції діафрагми, ателектази легень, плеврити). Для набрякових панкреатитів характерна висока ефективність консервативної терапії. 2. Гострий некротичний панкреатит. Розповсюджений некроз ПЗ підтверджується насамперед тривалістю захворювання. </a:t>
            </a:r>
            <a:endParaRPr b="0" lang="en-US" sz="2000" spc="-1" strike="noStrike">
              <a:solidFill>
                <a:srgbClr val="ffffff"/>
              </a:solidFill>
              <a:latin typeface="Cambria"/>
            </a:endParaRPr>
          </a:p>
        </p:txBody>
      </p:sp>
    </p:spTree>
  </p:cSld>
  <p:transition spd="slow">
    <p:push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179280" y="188640"/>
            <a:ext cx="8640720" cy="666900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ffff"/>
                </a:solidFill>
                <a:uFillTx/>
                <a:latin typeface="Cambria"/>
              </a:rPr>
              <a:t>Діагностика.</a:t>
            </a:r>
            <a:r>
              <a:rPr b="0" lang="ru-RU" sz="1900" spc="-1" strike="noStrike">
                <a:solidFill>
                  <a:srgbClr val="ffffff"/>
                </a:solidFill>
                <a:latin typeface="Cambria"/>
              </a:rPr>
              <a:t> Встановлення діагнозу “гострий панкреатит” є підставою для направлення хворого у хірургічний стаціонар. У приймальному відділенні стаціонару виділяються два контингенту хворих: з легкою і тяжкою формами ГП. Обстеження хворих з тяжкими формами ГП проводиться беспосередньо у протишоковій палаті і подальшому у відділенні реанімації та інтенсивної терапії. Виконується забір матеріалів для аналізів, які повинні бути виконані на протязі 2-х годин: клінічні аналізи крові і сечі; біохімічний аналіз крові (білірубін, АЛТ, АСТ, ЛФ, сечовина, креатинін, глюкоза, тімолова проба, αамілаза); електроліти – K + , Na+ , Ca++, Cl- ; СРБ; группа, Rh крові; коагулограма (час згортання крові, час рекальцифікації плазми, протромбіновий час, тромбіновий час, фібриноген, антитромбін III, ПДФ, ЕТ, ПСТ, тромбоцити); газовий і кислотно-основний склад крові (рН, раО2, раСО2, SB, BE). На протязі 2-х годин – у відділенні реанімації та інтенсивної терапії, куди надходять хворі з тяжкими формами ГП проводиться: ЕКГ; оглядова рентгенографія органів черевної і грудинної порожнини; моніторинг ЧСС, ЧД, АТ, ЦВТ. У найближчі 72 години проводиться: лапароцентез (по показаннях), при необхідності лапароскопія і дренування черевної порожнини; пункція плевральних порожнин (по показаннях); біохімічний, цитологічний і бактеріологічний аналіз вмісту порожнин + антибіотикограма (по показаннях); 3-х кратний посів крові на стерильність на висоті гіпертермії (при явищах сепсису); УЗД органів черевної порожнини. Додатково, по спеціальних показаннях проводиться: ЕФГДС; КТ з контрастним підсиленням (при непереносимості контрасту – ЯМР);спіральна КТ з контрастним підсиленням; ЕРПХГ; черезшкірна аспіраційна біопсія ПЗ тонкою голкою + цитологічний і бактеріальний аналіз аспірату.</a:t>
            </a:r>
            <a:endParaRPr b="0" lang="en-US" sz="1900" spc="-1" strike="noStrike">
              <a:solidFill>
                <a:srgbClr val="ffffff"/>
              </a:solidFill>
              <a:latin typeface="Cambria"/>
            </a:endParaRPr>
          </a:p>
        </p:txBody>
      </p:sp>
    </p:spTree>
  </p:cSld>
  <p:transition spd="slow">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179280" y="188640"/>
            <a:ext cx="8785440" cy="6669000"/>
          </a:xfrm>
          <a:prstGeom prst="rect">
            <a:avLst/>
          </a:prstGeom>
          <a:noFill/>
          <a:ln w="0">
            <a:noFill/>
          </a:ln>
        </p:spPr>
        <p:txBody>
          <a:bodyPr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Для підвищення якості діагностики і визначення прогнозу при ГП необхідне комплексне інструментальне обстеження, що включає дані УЗД органів заочеревинного простору і черевної порожнини, лапароскопію, різні види КТ, а також визначення активності панкреатичних ферментів у крові, сечі і перитонеальному экссудаті. Вивляють підвищену активність ферментів ПЗ, але нормальні показники ферментів крові і сечі не виключають наявності ГП. Із збільшенням часу захворювання гіперферментемії зменшується. Часто підвищується загальний білірубін за рахунок прямого. Важливу роль у діагностиці ГП належить оглядовій рентгенографії і рентгеноскопії грудної клітки і черевної порожнини, за допомогою яких можна виключити ряд загальних хірургічних захворювань органів живота і виявити ознаки ураження ПЗ. Часто виявляється здуття поперечно-ободової кишки (симптом Гобьє) та інших відділів кишечнику, збільшення відстані між великою кривизною шлунка і поперечно-ободовою кишкою. Ендоскопічна фіброгастродуоденоскопія (ЕФГДС) виконує допоміжну роль у діагностиці ГП. Найбільш характерними ендоскопічними ознаками є стиснення задньої стінки шлунка і картина гострого гастродуоденіту. При тяжкому панкреатиті частіше виявляються ерозивний і геморагічний гастродуоденіт і ознаки рефлюкс-езофагіту. </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Ультрасонографія залишається скринінговим методом оцінки стану ПЗ, біліарної системи, черевної і плевральної порожнин при ГП. УЗД дозволяє поставити діагноз ГП в 40-86% випадків, але не завжди допомагає вірогідно визначити форму, характеризувати стан заочеревинної клітковини. Залучення методики доплерографії і виміру параметрів гемодинамики у вісцеральних судинах дозволяє підвищити специфічність, чутливість і точність УЗД при панкреонекрозі.</a:t>
            </a:r>
            <a:endParaRPr b="0" lang="en-US" sz="1900" spc="-1" strike="noStrike">
              <a:solidFill>
                <a:srgbClr val="ffffff"/>
              </a:solidFill>
              <a:latin typeface="Cambria"/>
            </a:endParaRPr>
          </a:p>
        </p:txBody>
      </p:sp>
    </p:spTree>
  </p:cSld>
  <p:transition spd="slow">
    <p:push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179280" y="189000"/>
            <a:ext cx="8964720" cy="720072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ffffff"/>
                </a:solidFill>
                <a:uFillTx/>
                <a:latin typeface="Cambria"/>
              </a:rPr>
              <a:t>Лікування.</a:t>
            </a:r>
            <a:r>
              <a:rPr b="0" lang="ru-RU" sz="1500" spc="-1" strike="noStrike">
                <a:solidFill>
                  <a:srgbClr val="ffffff"/>
                </a:solidFill>
                <a:latin typeface="Cambria"/>
              </a:rPr>
              <a:t> Тактика і методи комплексного лікування ГП визначаються категорією тяжкості стану хворого. Консервативному лікуванню підлягають усі хворі набряковою формою ГП (виключення становить ГП біліарної етіології, при якому проводиться хірургічне втручання на жовчних шляхах). Комплексне лікування хворого з деструктивним панкреатитом проводиться тільки в умовах відділення інтенсивної терапії. Консервативне лікування некротичних форм ГП можливе тільки у тих випадках, якщо захворювання піддається подібній терапії. Операція виконується при розвитку гнійних ускладнень.</a:t>
            </a:r>
            <a:endParaRPr b="0" lang="en-US" sz="15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ffffff"/>
                </a:solidFill>
                <a:latin typeface="Cambria"/>
              </a:rPr>
              <a:t>Для найкращого рішення основних питань хірургічного лікування, операції у хворих з ГП (у залежності від фази розвитку і періоду перебігу хвороби) поділяють на 3 групи: 1.Ранні, виконують в перші години і дні захворювання в гострому періоді розвитку набряку чи некрозу залози. Показання до ранніх операцій: - виражені ознаки ферментативного перітоніту, що протікає з явищами інтоксікації та не зникає протягом 24 годинного проведення консервативної терапії з методом форсованного діурезу та лапароскопічної санації черевної поржнини; - при біліарних панкреатитах показаннями до ранньої оперції служать крім перитоніту деструктивнний холецистит або жовтяниця; - прогресуюча поліорганна недостатність, яка не піддається інтенсивній терапії протягом 18-72 годин; - гострий травматичний панкреатит. Ранні операції виконуються в період до 7 діб від початку захворювання. Ферментативний перитоніт є показанням до лапароскопічного дренування черевної порожнини з послідуючим лаважем. Після впровадження в практику ургентної хірургії лапароскопії, що дозволяє визначити форму панкреатиту і визначити стан біліарної системи, зменшилося число ранніх операцій. Крім того, лапароскопічний лаваж може бути використаний як передопераційна підготовку хворого. 2.Пізні операції у фазі розплавлювання і секвестрації некротичних вогнищ підшлункової залози і заочеревинної клітковини, що утворюються звичайно на 2-3-й тиждень від початку захворювання. При лікуванні хворих у цій фазі можливо вчасно видалити мертві тканини залози і заочеревинної клітковини, тобто вчасно виконати некректомію (після 10-го дня захворювання) чи секвестректомію (на 3- 4-й тиждень від початку захворювання). 3. Планові операції, які виконують в період стихання повної ліквідації патологічних змін ПЗ. Ці операції показані при тих захворюваннях органів живота, що можуть бути причиною панкреатиту і сприяють його розвитку (жовчно-кам'яна хвороба, холецистит, гастродуоденальная непрохідність, дуоденостаз, дивертикул ДПК, непрохідність панкреатичної протоки й ін.). Вони спрямовані на попередження рецидиву ГП шляхом оперативної санації жовчних шляхів і інших органів травлення, а також самої ПЗ. </a:t>
            </a:r>
            <a:endParaRPr b="0" lang="en-US" sz="1500" spc="-1" strike="noStrike">
              <a:solidFill>
                <a:srgbClr val="ffffff"/>
              </a:solidFill>
              <a:latin typeface="Cambria"/>
            </a:endParaRPr>
          </a:p>
        </p:txBody>
      </p:sp>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611280" y="333000"/>
            <a:ext cx="8640720" cy="63356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ambria"/>
              </a:rPr>
              <a:t>Хронічний панкреатит.</a:t>
            </a:r>
            <a:endParaRPr b="0" lang="en-US" sz="20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Cambria"/>
              </a:rPr>
              <a:t>Основні етіологічні чинники:</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 порушення харчування та хронічний алкоголізм;</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2) жовчно-кам'яна хвороба і холедохолітіаз;</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3) перенесений приступ гострого панкреатиту;</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4) стеноз та обструкція проток ПЗ;</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5) недостатність артеріального кровопостачання ПЗ;</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6) посттравматична обструкція протоків ПЗ;</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7) утруднення відтоку панкреатичного секрету та рефлюкс інфікованої жовчі або вмісту 12-палої кишки у панкреатичні протоки;</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8) вплив хімічних речовин, включаючи лікарські препарати;</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9) гіперліпідемія;</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0) недостатнє білкове харчування (недоїдання);</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1) спадкова схильність (недостатність </a:t>
            </a:r>
            <a:r>
              <a:rPr b="0" lang="el-GR" sz="1800" spc="-1" strike="noStrike">
                <a:solidFill>
                  <a:srgbClr val="ffffff"/>
                </a:solidFill>
                <a:latin typeface="Cambria"/>
              </a:rPr>
              <a:t>α-</a:t>
            </a:r>
            <a:r>
              <a:rPr b="0" lang="ru-RU" sz="1800" spc="-1" strike="noStrike">
                <a:solidFill>
                  <a:srgbClr val="ffffff"/>
                </a:solidFill>
                <a:latin typeface="Cambria"/>
              </a:rPr>
              <a:t>антитрипсину та інші генетичні фактори);</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2) гіперпаратиреоідизм (гіперкальціємія);</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3) муковісцидоз (найбільш частий фактор у дітей);</a:t>
            </a: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4) ідіопатичний ХП</a:t>
            </a:r>
            <a:r>
              <a:rPr b="0" lang="ru-RU" sz="1600" spc="-1" strike="noStrike">
                <a:solidFill>
                  <a:srgbClr val="ffffff"/>
                </a:solidFill>
                <a:latin typeface="Cambria"/>
              </a:rPr>
              <a:t>.</a:t>
            </a:r>
            <a:endParaRPr b="0" lang="en-US" sz="1600" spc="-1" strike="noStrike">
              <a:solidFill>
                <a:srgbClr val="ffffff"/>
              </a:solidFill>
              <a:latin typeface="Cambria"/>
            </a:endParaRPr>
          </a:p>
        </p:txBody>
      </p:sp>
    </p:spTree>
  </p:cSld>
  <p:transition spd="slow">
    <p:push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287280" y="333360"/>
            <a:ext cx="8856720" cy="64087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Cambria"/>
              </a:rPr>
              <a:t>Класифікація ХП (Шалімов О.О. (1997)):</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 Хронічний фіброзний панкреатит без порушення прохідності головної панкреатичної протоки.</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2. Хронічний фіброзний панкреатит із порушенням прохідності головної панкреатичної протоки, дилятацією проток ПЗ та гіпертензією панкреатичного соку.</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3. Хронічний фіброзно-дегенеративний панкреатит:</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а) калькульозний;</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б) псевдотуморозний;</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в) фіброзно-кістозний;</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г) фіброзно-дегенеративний з ураженням сусідніх органів і порушенням їх функції.</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Cambria"/>
              </a:rPr>
              <a:t>Класифікація ХП (Шелагуров О.О. (1970)):</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 Хронічний рецидивний панкреатит.</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2. Хронічний больовий панкреатит.</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3. Хронічний безбольовий панкреатит.</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4. Хронічний псевдотуморозний панкреатит.</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5. Хронічний холецистохолангіопанкреатит.</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6. Хронічний індуративний панкреатит.</a:t>
            </a:r>
            <a:endParaRPr b="0" lang="en-US" sz="1800" spc="-1" strike="noStrike">
              <a:solidFill>
                <a:srgbClr val="ffffff"/>
              </a:solidFill>
              <a:latin typeface="Cambria"/>
            </a:endParaRPr>
          </a:p>
        </p:txBody>
      </p:sp>
    </p:spTree>
  </p:cSld>
  <p:transition spd="slow">
    <p:push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250560" y="188640"/>
            <a:ext cx="8569080" cy="6119640"/>
          </a:xfrm>
          <a:prstGeom prst="rect">
            <a:avLst/>
          </a:prstGeom>
          <a:noFill/>
          <a:ln w="0">
            <a:noFill/>
          </a:ln>
        </p:spPr>
        <p:txBody>
          <a:bodyPr anchor="t">
            <a:normAutofit fontScale="95000"/>
          </a:bodyPr>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Cambria"/>
              </a:rPr>
              <a:t>Хронічний холецистохолангіопанкреатит.</a:t>
            </a:r>
            <a:r>
              <a:rPr b="0" lang="ru-RU" sz="1600" spc="-1" strike="noStrike">
                <a:solidFill>
                  <a:srgbClr val="ffffff"/>
                </a:solidFill>
                <a:latin typeface="Cambria"/>
              </a:rPr>
              <a:t> Виникнення та перебіг панкреатиту обумовлене їснуванням жовчно-кам'яної хвороби, холециститу, холангіту, коли запальний процес лімфогенним і контактним шляхом переходить на головку підшлункової залози.</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Cambria"/>
              </a:rPr>
              <a:t>Хронічний індуративний панкреатит</a:t>
            </a:r>
            <a:r>
              <a:rPr b="0" lang="ru-RU" sz="1600" spc="-1" strike="noStrike">
                <a:solidFill>
                  <a:srgbClr val="ffffff"/>
                </a:solidFill>
                <a:latin typeface="Cambria"/>
              </a:rPr>
              <a:t> проявляється індурацією і фіброзом паренхіми ПЗ з порушенням прохідності панкреатичних проток, атрофією ацинусів і острівцевого апарату. Тривалий перебіг хвороби призводить до утворення кальцинатів у підшлунковій залозі.</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Cambria"/>
              </a:rPr>
              <a:t>Хронічний кістозно-фіброзний панкреатит</a:t>
            </a:r>
            <a:r>
              <a:rPr b="0" lang="ru-RU" sz="1600" spc="-1" strike="noStrike">
                <a:solidFill>
                  <a:srgbClr val="ffffff"/>
                </a:solidFill>
                <a:latin typeface="Cambria"/>
              </a:rPr>
              <a:t> обумовлений порушенням цілісності тканин і панкреатичних проток з утворенням кіст, частковим фіброзом підшлункової залози, які утруднюють відтік панкреатичного соку.</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Cambria"/>
              </a:rPr>
              <a:t>Хронічний панкреатит, обумовлений порушенням відтоку панкреатичного соку в 12-палу кишку</a:t>
            </a:r>
            <a:r>
              <a:rPr b="0" lang="ru-RU" sz="1600" spc="-1" strike="noStrike">
                <a:solidFill>
                  <a:srgbClr val="ffffff"/>
                </a:solidFill>
                <a:latin typeface="Cambria"/>
              </a:rPr>
              <a:t> виникає при стенозуючому папіліті, виразках 12-палої кишки з пенетрацією у підшлункову залозу, парапапілярних дивертикулах, що порушують відтік панкреатичного соку, дуоденостазі.</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Cambria"/>
              </a:rPr>
              <a:t>Хронічний паренхіматозно-фіброзний панкреатит</a:t>
            </a:r>
            <a:r>
              <a:rPr b="0" lang="ru-RU" sz="1600" spc="-1" strike="noStrike">
                <a:solidFill>
                  <a:srgbClr val="ffffff"/>
                </a:solidFill>
                <a:latin typeface="Cambria"/>
              </a:rPr>
              <a:t> – захворювання, що характеризується фіброзом паренхіми залози і навколишніх нервових утворень без порушення прохідності головної панкреатичної протоки.</a:t>
            </a:r>
            <a:endParaRPr b="0" lang="en-US" sz="1600" spc="-1" strike="noStrike">
              <a:solidFill>
                <a:srgbClr val="ffffff"/>
              </a:solidFill>
              <a:latin typeface="Cambria"/>
            </a:endParaRPr>
          </a:p>
          <a:p>
            <a:pPr marL="277200" indent="-27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a:p>
            <a:pPr marL="277200" indent="-27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ffff"/>
                </a:solidFill>
                <a:uFillTx/>
                <a:latin typeface="Cambria"/>
              </a:rPr>
              <a:t>Клінічні ознаки.</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1. Біль.</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2. Диспептичні розлади.</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3. Схуднення.</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4. Жовтяниця і холангіт.</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5. Порушення внутрішньосекреторної функції ПЗ.</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6. Симптоми, обумовлені захворюванням інших органів травлення.</a:t>
            </a:r>
            <a:endParaRPr b="0" lang="en-US" sz="1600" spc="-1" strike="noStrike">
              <a:solidFill>
                <a:srgbClr val="ffffff"/>
              </a:solidFill>
              <a:latin typeface="Cambria"/>
            </a:endParaRPr>
          </a:p>
        </p:txBody>
      </p:sp>
    </p:spTree>
  </p:cSld>
  <p:transition spd="slow">
    <p:push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610920" y="907560"/>
            <a:ext cx="8785080" cy="63738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Cambria"/>
              </a:rPr>
              <a:t>Додаткові методи дослідження.</a:t>
            </a:r>
            <a:endParaRPr b="0" lang="en-US" sz="20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 </a:t>
            </a:r>
            <a:r>
              <a:rPr b="0" i="1" lang="ru-RU" sz="2000" spc="-1" strike="noStrike">
                <a:solidFill>
                  <a:srgbClr val="ffffff"/>
                </a:solidFill>
                <a:latin typeface="Cambria"/>
              </a:rPr>
              <a:t>зовнішньосекреторну</a:t>
            </a:r>
            <a:r>
              <a:rPr b="0" lang="ru-RU" sz="2000" spc="-1" strike="noStrike">
                <a:solidFill>
                  <a:srgbClr val="ffffff"/>
                </a:solidFill>
                <a:latin typeface="Cambria"/>
              </a:rPr>
              <a:t> функцію ПЗ вивчають шляхом дуоденального зондування з визначенням активності панкреатичних ферментів.</a:t>
            </a:r>
            <a:endParaRPr b="0" lang="en-US" sz="20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 встановлюють підвищений рівень амілази в крові.</a:t>
            </a:r>
            <a:endParaRPr b="0" lang="en-US" sz="20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 встановлюють підвищений рівень діастази в сечі.</a:t>
            </a:r>
            <a:endParaRPr b="0" lang="en-US" sz="20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 копрологічне дослідження. Макроскопічно – сіруватий колір, велика маса, неприємний запах, стеаторея, креаторея.</a:t>
            </a:r>
            <a:endParaRPr b="0" lang="en-US" sz="20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mbria"/>
              </a:rPr>
              <a:t>Дослідження </a:t>
            </a:r>
            <a:r>
              <a:rPr b="1" i="1" lang="ru-RU" sz="2000" spc="-1" strike="noStrike">
                <a:solidFill>
                  <a:srgbClr val="ffffff"/>
                </a:solidFill>
                <a:latin typeface="Cambria"/>
              </a:rPr>
              <a:t>внутрішньосекреторної</a:t>
            </a:r>
            <a:r>
              <a:rPr b="1" lang="ru-RU" sz="2000" spc="-1" strike="noStrike">
                <a:solidFill>
                  <a:srgbClr val="ffffff"/>
                </a:solidFill>
                <a:latin typeface="Cambria"/>
              </a:rPr>
              <a:t> функції ПЗ:</a:t>
            </a:r>
            <a:endParaRPr b="0" lang="en-US" sz="20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1) визначення цукру в крові й сечі (гіперглікемія, глюкозурія);</a:t>
            </a:r>
            <a:endParaRPr b="0" lang="en-US" sz="20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2) радіоімунологічне визначення гормонів (інсуліну, С-пептиду та глюкагону).</a:t>
            </a:r>
            <a:endParaRPr b="0" lang="en-US" sz="20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p:txBody>
      </p:sp>
    </p:spTree>
  </p:cSld>
  <p:transition spd="slow">
    <p:push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58560" y="404640"/>
            <a:ext cx="8785080" cy="637416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Оглядова рентгенографія органів черевної порожнини у двох проекціях</a:t>
            </a:r>
            <a:r>
              <a:rPr b="0" lang="ru-RU" sz="1400" spc="-1" strike="noStrike">
                <a:solidFill>
                  <a:srgbClr val="ffffff"/>
                </a:solidFill>
                <a:latin typeface="Cambria"/>
              </a:rPr>
              <a:t> дає можливість виявити існуючі конкременти у протоках і кальцифікати у паренхимі П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Релаксаційна дуоденографія</a:t>
            </a:r>
            <a:r>
              <a:rPr b="0" lang="ru-RU" sz="1400" spc="-1" strike="noStrike">
                <a:solidFill>
                  <a:srgbClr val="ffffff"/>
                </a:solidFill>
                <a:latin typeface="Cambria"/>
              </a:rPr>
              <a:t> (контрастне дослідження 12-палої кишки після введення 0,1% розчину метацину). Спостерігають розгортання "підкови" 12-палої кишки та зміни рельєфу її слизової. Визначають симптом Фростберга – деформація "підкови" 12-палої кишки у вигляді букви Е.</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Холецистохолангіографію</a:t>
            </a:r>
            <a:r>
              <a:rPr b="0" lang="ru-RU" sz="1400" spc="-1" strike="noStrike">
                <a:solidFill>
                  <a:srgbClr val="ffffff"/>
                </a:solidFill>
                <a:latin typeface="Cambria"/>
              </a:rPr>
              <a:t> проводять з метою діагностики жовчно-кам'яної хвороби та вторинних уражень жовчних шляхів.</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Ультразвукове дослідження ПЗ</a:t>
            </a:r>
            <a:r>
              <a:rPr b="0" lang="ru-RU" sz="1400" spc="-1" strike="noStrike">
                <a:solidFill>
                  <a:srgbClr val="ffffff"/>
                </a:solidFill>
                <a:latin typeface="Cambria"/>
              </a:rPr>
              <a:t> (сонографія) – нерівність контурів залози, підвищення щільності її паренхіми, збільшення або зменшення розмірів органа, розширення панкреатичної протоки та вірсунголітіаз або наявність конкрементів паренхі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Сцинтіграфія ПЗ.</a:t>
            </a:r>
            <a:r>
              <a:rPr b="0" lang="ru-RU" sz="1400" spc="-1" strike="noStrike">
                <a:solidFill>
                  <a:srgbClr val="ffffff"/>
                </a:solidFill>
                <a:latin typeface="Cambria"/>
              </a:rPr>
              <a:t> На ранніх стадіях спостерігають посилення сцинтіграфічного малюнка, на пізніх – його зтертість і дефекти накопичення радіонукліду (симптом "решета" або "бджолиного стільника").</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Комп'ютерна томографія</a:t>
            </a:r>
            <a:r>
              <a:rPr b="0" lang="ru-RU" sz="1400" spc="-1" strike="noStrike">
                <a:solidFill>
                  <a:srgbClr val="ffffff"/>
                </a:solidFill>
                <a:latin typeface="Cambria"/>
              </a:rPr>
              <a:t> дозволяє виявити збільшення або зменшення розмірів залози, наявність кальцифікатів, конкрементів, нерівність контурів органа, вогнищеві або дифузні зміни його структур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Ендоскопічна </a:t>
            </a:r>
            <a:r>
              <a:rPr b="0" i="1" lang="ru-RU" sz="1400" spc="-1" strike="noStrike">
                <a:solidFill>
                  <a:srgbClr val="ffffff"/>
                </a:solidFill>
                <a:latin typeface="Cambria"/>
              </a:rPr>
              <a:t>ретроградна панкреатохолангіографія</a:t>
            </a:r>
            <a:r>
              <a:rPr b="0" lang="ru-RU" sz="1400" spc="-1" strike="noStrike">
                <a:solidFill>
                  <a:srgbClr val="ffffff"/>
                </a:solidFill>
                <a:latin typeface="Cambria"/>
              </a:rPr>
              <a:t> – розширення панкреатичної протоки, її деформацію, вірсунголітіа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Лапароскопію</a:t>
            </a:r>
            <a:r>
              <a:rPr b="0" lang="ru-RU" sz="1400" spc="-1" strike="noStrike">
                <a:solidFill>
                  <a:srgbClr val="ffffff"/>
                </a:solidFill>
                <a:latin typeface="Cambria"/>
              </a:rPr>
              <a:t> доцільно застосовувати у фазі загострення ХП при розвитку жирового та геморагічного панкреонекрозів ("стеаринові бляшки",ексудат).</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Пункційна біопсія</a:t>
            </a:r>
            <a:r>
              <a:rPr b="0" lang="ru-RU" sz="1400" spc="-1" strike="noStrike">
                <a:solidFill>
                  <a:srgbClr val="ffffff"/>
                </a:solidFill>
                <a:latin typeface="Cambria"/>
              </a:rPr>
              <a:t> ПЗ під контролем сонографії може мати важливе значення для диференційної діагностики панктеатиту й раку.</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Черезшкірна черезпечінкова холангіографія і –стомія</a:t>
            </a:r>
            <a:r>
              <a:rPr b="0" lang="ru-RU" sz="1400" spc="-1" strike="noStrike">
                <a:solidFill>
                  <a:srgbClr val="ffffff"/>
                </a:solidFill>
                <a:latin typeface="Cambria"/>
              </a:rPr>
              <a:t> використовується для диференціальної діагностики псевдотуморозної форми ХП й раку ПЗ, так і з метою передопераційної підготовки при наявності жовтяниц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24000" y="549000"/>
            <a:ext cx="8758080" cy="6048360"/>
          </a:xfrm>
          <a:prstGeom prst="rect">
            <a:avLst/>
          </a:prstGeom>
          <a:noFill/>
          <a:ln w="0">
            <a:noFill/>
          </a:ln>
        </p:spPr>
        <p:txBody>
          <a:bodyPr anchor="t">
            <a:normAutofit fontScale="94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mbria"/>
              </a:rPr>
              <a:t>Анатомія підшлункової залози.</a:t>
            </a: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Підшлункова залоза (р</a:t>
            </a:r>
            <a:r>
              <a:rPr b="0" lang="en-US" sz="2000" spc="-1" strike="noStrike">
                <a:solidFill>
                  <a:srgbClr val="ffffff"/>
                </a:solidFill>
                <a:latin typeface="Rockwell"/>
              </a:rPr>
              <a:t>ancreas, </a:t>
            </a:r>
            <a:r>
              <a:rPr b="0" lang="ru-RU" sz="2000" spc="-1" strike="noStrike">
                <a:solidFill>
                  <a:srgbClr val="ffffff"/>
                </a:solidFill>
                <a:latin typeface="Cambria"/>
              </a:rPr>
              <a:t>ПЗ) – непарний залозистий орган, розміщений в позаочеревинному просторі на рівні І-ІІ поперекових хребців. Залоза витягнута у вигляді тяжа довжиною 15-25 см, шириною 3-9 см і товщиною 2-3 см, середня маса 80-100 г. У ній виділяють 3 анатомічних відділи: головку, тіло та хвіст. Головка розміщена у підкові дванадцятипалої кишки (ДПК). Тіло підшлункової залози передньою своєю поверхнею прилягає до задньої поверхні шлунка. Ці органи відділені одне від одного вузькою щілиною – сальниковою сумкою. Хвіст залози досягає воріт селезінки. До нього прилягає спереду селезінковий кут ободової кишки.</a:t>
            </a: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Хвіст інколи покритий очеревиною з усіх боків, що інколи пов'язується з наявністю добре вираженої </a:t>
            </a:r>
            <a:r>
              <a:rPr b="0" lang="en-US" sz="2000" spc="-1" strike="noStrike">
                <a:solidFill>
                  <a:srgbClr val="ffffff"/>
                </a:solidFill>
                <a:latin typeface="Rockwell"/>
              </a:rPr>
              <a:t>lig. pancreaticolienale.</a:t>
            </a: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На рівні переднього краю ПЗ міститься корінь брижі поперечної ободової кишки, листки якого у цьому місці розходяться: один – доверху, інший – донизу. Передня поверхня тіла залози лежить вище кореня брижі. Продовжуючись вправо, корінь брижі пересікає головку залози приблизно на рівні її середини. Позаду ПЗ розміщуються: 1) в ділянці головки – нижня порожниста вена, початковий відділ ворітної вени; 2) в ділянці тіла – верхні брижові судини, аорта, частина сонячного сплетення; 3 ) в ділянці хвоста – ліва нирка.</a:t>
            </a:r>
            <a:endParaRPr b="0" lang="en-US" sz="2000" spc="-1" strike="noStrike">
              <a:solidFill>
                <a:srgbClr val="ffffff"/>
              </a:solidFill>
              <a:latin typeface="Cambria"/>
            </a:endParaRPr>
          </a:p>
        </p:txBody>
      </p:sp>
    </p:spTree>
  </p:cSld>
  <p:transition spd="slow">
    <p:push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179280" y="7560"/>
            <a:ext cx="8785440" cy="6373800"/>
          </a:xfrm>
          <a:prstGeom prst="rect">
            <a:avLst/>
          </a:prstGeom>
          <a:noFill/>
          <a:ln w="0">
            <a:noFill/>
          </a:ln>
        </p:spPr>
        <p:txBody>
          <a:bodyPr anchor="t">
            <a:normAutofit fontScale="95000"/>
          </a:bodyPr>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ffffff"/>
                </a:solidFill>
                <a:latin typeface="Cambria"/>
              </a:rPr>
              <a:t>Рентгенологічні симптоми хронічного панкреатиту.</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1. Звапнення у залозі, яке виявляють у 70-75% хворих з ХП, який далеко зайшов, у вигляді:</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а) поодиноких каменів різної величини, розташованих у відносно крупних панкреатичних протоках;</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б) множинних кальцифікатів, які локалізуються як у залозі, так і у протоках;</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в) дифузного звапнення залози.</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2. Розширення або розвертання петлі 12-палої кишки.</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3. Здавлення 12-палої кишки збільшеною головкою ПЗ подібно стенозу.</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4. Зміни медіального контуру 12-палої кишки і перед усім її стінки – горбкуватість, дефект заповнення.</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5. Поява над і під великим дуоденальним сосочоком симетричних вдавлень, створюючих на внутрішній стінці нисхідної частини ДПК картину, що нагадує перевернуту на 180</a:t>
            </a:r>
            <a:r>
              <a:rPr b="0" lang="ru-RU" sz="1600" spc="-1" strike="noStrike" baseline="30000">
                <a:solidFill>
                  <a:srgbClr val="ffffff"/>
                </a:solidFill>
                <a:latin typeface="Cambria"/>
              </a:rPr>
              <a:t>0</a:t>
            </a:r>
            <a:r>
              <a:rPr b="0" lang="ru-RU" sz="1600" spc="-1" strike="noStrike">
                <a:solidFill>
                  <a:srgbClr val="ffffff"/>
                </a:solidFill>
                <a:latin typeface="Cambria"/>
              </a:rPr>
              <a:t> цифру 3 (симптом Фростберга).</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6. Виражена гіпермоторна функція ДПК.</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7. Деформація шлунка і ДПК, зміщення цибулини доверху збільшеною підшлунковою залозою.</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8. Збільшення відстані між шлунком і хребтом (ретрогастрального простору), що обумовлене збільшеною підшлунковою залозою і яке визначається при бічному просвічуванні (в нормі воно дорівнює 4-6 см).</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9. Порушення евакуації (головним чином, сповільнене) шлунка і ДПК, дуоденальний ілеус, наявність рівня рідини в ДПК.</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10. Сосочкова ознака – рентгенологічне визначення великого сосочка ДПК в результаті переходу на нього запального набряку з підшлункової залози.</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11. Явища остеопорозу кісток, який розвивається у зв'язку з недостатнім всмоктуванням кальція з кишечника внаслідок діареї і неповноцінного перетравлювання жиру.</a:t>
            </a:r>
            <a:endParaRPr b="0" lang="en-US" sz="1600" spc="-1" strike="noStrike">
              <a:solidFill>
                <a:srgbClr val="ffffff"/>
              </a:solidFill>
              <a:latin typeface="Cambria"/>
            </a:endParaRPr>
          </a:p>
          <a:p>
            <a:pPr marL="277200" indent="-27720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p:txBody>
      </p:sp>
    </p:spTree>
  </p:cSld>
  <p:transition spd="slow">
    <p:push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58560" y="333000"/>
            <a:ext cx="878508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ambria"/>
              </a:rPr>
              <a:t>Лікування спрямоване на:</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Усунення болю.</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Усунення факторів, що призвели до хронічного панкреатиту.</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3. Купування зовнішньо- і внутрішньосекреторної недостатност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4. Боротьба з ускладненнями, що виникл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У фазі загострення хронічного панкреатиту:</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Боротьба з больовим синдромом включає застосування знеболюючих засобів і спазмолітиків (промедол, анальгін, папаверін, но-шпа, платифілін, глюкозо-новокаїнова суміш).</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Препарати, що знижують панкреатичну секрецію (атропін, метацин, сандостатин, даларгін, стиламін, соматостатин).</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Препарати, що пригнічують шлункову секрецію:</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Н</a:t>
            </a:r>
            <a:r>
              <a:rPr b="0" lang="ru-RU" sz="1400" spc="-1" strike="noStrike" baseline="-25000">
                <a:solidFill>
                  <a:srgbClr val="ffffff"/>
                </a:solidFill>
                <a:latin typeface="Cambria"/>
              </a:rPr>
              <a:t>2</a:t>
            </a:r>
            <a:r>
              <a:rPr b="0" lang="ru-RU" sz="1400" spc="-1" strike="noStrike">
                <a:solidFill>
                  <a:srgbClr val="ffffff"/>
                </a:solidFill>
                <a:latin typeface="Cambria"/>
              </a:rPr>
              <a:t>-блокатори (гістодил, циметидин, гастроцепін, ранісан, тагамет, ранідтидин, тощо);</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антациди (альмагель, гастропан).</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Антигістамінні препарати (дімедрол, впрастін, фенкарол, тавергіл).</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Антиферментна терап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а) інгібітори протеаз (контрикал, трасилол, гордокс, антагозан);</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б) цитостатики (фторафур, 5-фторурацил);</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 хімічні інгібітори трипсину (амінокапронова кислота, пентоксил).</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Для покращення мікроциркуляції (гепарин, реополіглюкін, реоглюман).</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Дезінтоксикаційна терапія (неогемодез, глюконеодез, ентероде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З метою парентерального харчування (5-10-40% розчини глюкози з інсуліном, плазма, альбумін, альвезін, поліамін, ліпофундін).</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Для нормалізації моторної функції органів травлення (церуал, реглан).</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ітаміни С, В</a:t>
            </a:r>
            <a:r>
              <a:rPr b="0" lang="ru-RU" sz="1400" spc="-1" strike="noStrike" baseline="-25000">
                <a:solidFill>
                  <a:srgbClr val="ffffff"/>
                </a:solidFill>
                <a:latin typeface="Cambria"/>
              </a:rPr>
              <a:t>1, </a:t>
            </a:r>
            <a:r>
              <a:rPr b="0" lang="ru-RU" sz="1400" spc="-1" strike="noStrike">
                <a:solidFill>
                  <a:srgbClr val="ffffff"/>
                </a:solidFill>
                <a:latin typeface="Cambria"/>
              </a:rPr>
              <a:t>В</a:t>
            </a:r>
            <a:r>
              <a:rPr b="0" lang="ru-RU" sz="1400" spc="-1" strike="noStrike" baseline="-25000">
                <a:solidFill>
                  <a:srgbClr val="ffffff"/>
                </a:solidFill>
                <a:latin typeface="Cambria"/>
              </a:rPr>
              <a:t> 6,</a:t>
            </a:r>
            <a:r>
              <a:rPr b="0" lang="ru-RU" sz="1400" spc="-1" strike="noStrike">
                <a:solidFill>
                  <a:srgbClr val="ffffff"/>
                </a:solidFill>
                <a:latin typeface="Cambria"/>
              </a:rPr>
              <a:t> В</a:t>
            </a:r>
            <a:r>
              <a:rPr b="0" lang="ru-RU" sz="1400" spc="-1" strike="noStrike" baseline="-25000">
                <a:solidFill>
                  <a:srgbClr val="ffffff"/>
                </a:solidFill>
                <a:latin typeface="Cambria"/>
              </a:rPr>
              <a:t> 12.</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Анаболічні гормони (ретаболіл, неробол).</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71160" y="495000"/>
            <a:ext cx="878508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Cambria"/>
              </a:rPr>
              <a:t>При вщуханні запальних явищ в підшлунковій залозі:</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 </a:t>
            </a:r>
            <a:r>
              <a:rPr b="0" lang="ru-RU" sz="2000" spc="-1" strike="noStrike">
                <a:solidFill>
                  <a:srgbClr val="ffffff"/>
                </a:solidFill>
                <a:latin typeface="Cambria"/>
              </a:rPr>
              <a:t>дієта № 5;</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 </a:t>
            </a:r>
            <a:r>
              <a:rPr b="0" lang="ru-RU" sz="2000" spc="-1" strike="noStrike">
                <a:solidFill>
                  <a:srgbClr val="ffffff"/>
                </a:solidFill>
                <a:latin typeface="Cambria"/>
              </a:rPr>
              <a:t>корекція екскреторної недостатності (фестал, панзінорм, панкреозімін, дігестал, тощо);</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 </a:t>
            </a:r>
            <a:r>
              <a:rPr b="0" lang="ru-RU" sz="2000" spc="-1" strike="noStrike">
                <a:solidFill>
                  <a:srgbClr val="ffffff"/>
                </a:solidFill>
                <a:latin typeface="Cambria"/>
              </a:rPr>
              <a:t>з метою стимуляції функції підшлункової залози можна застосовувати секретин.</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Cambria"/>
              </a:rPr>
              <a:t>Корекція ендокринної недостатності підшлункової залози:</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При розвитку вторинного цукрового діабету легкого ступеню – дієта з обмеженням вуглеводів, букарбан, манініл.</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При середньому і важкому ступенях – інсулінотерапія.</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Cambria"/>
              </a:rPr>
              <a:t>Фізіотерапевтичні процедури:</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Індуктотермія, мікрохвильова терапія (надвисокі частоти), електростимуляція ДПК, ультразвук, електрофорез, внутрішньотканинний електрофорез.</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ffffff"/>
                </a:solidFill>
                <a:uFillTx/>
                <a:latin typeface="Cambria"/>
              </a:rPr>
              <a:t>Санаторно-курортне лікування:</a:t>
            </a:r>
            <a:r>
              <a:rPr b="0" lang="ru-RU" sz="2000" spc="-1" strike="noStrike">
                <a:solidFill>
                  <a:srgbClr val="ffffff"/>
                </a:solidFill>
                <a:latin typeface="Cambria"/>
              </a:rPr>
              <a:t> Моршин, Гусятин, Східниця.</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p:txBody>
      </p:sp>
    </p:spTree>
  </p:cSld>
  <p:transition spd="slow">
    <p:push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179280" y="7560"/>
            <a:ext cx="878544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u="sng">
                <a:solidFill>
                  <a:srgbClr val="ffffff"/>
                </a:solidFill>
                <a:uFillTx/>
                <a:latin typeface="Cambria"/>
              </a:rPr>
              <a:t>Показання до оперативного лікування</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1. Кальциноз ПЗ з вираженим больовим синдромом.</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2. Порушення прохідності протоки ПЗ.</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3. Наявність кісти або нориці, резистентної до консервативної терапії протягом 2-4 міс.</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4. Механічна жовтяниця на тлі тубулярного стеноза дистального відділа загальної жовчної протоки.</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5. Стиснення та тромбоз ворітної вени.</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6. Жовчно-кам'яна хвороба, ускладнена хронічним панкреатитом.</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7. Виразкова хвороба шлунка та ДПК, ускладнена вторинним панкреатитом.</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8. Дуоденостаз, ускладнений хронічним панкреатитом.</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9. Неможливість виключення до операції пухлини або порушення артеріального кровообігу ПЗ.</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u="sng">
                <a:solidFill>
                  <a:srgbClr val="ffffff"/>
                </a:solidFill>
                <a:uFillTx/>
                <a:latin typeface="Cambria"/>
              </a:rPr>
              <a:t>Операції:</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1. Холецистектомія.</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2. Холедохолітотомія (з глухим швом із зовнішнім дренажом, із внутрішнім дренажом).</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3. Папілосфінктеротомія.</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4. Вірсунгопластика.</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5. Панкреатоєюностомія:</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а) поздовжня – при значному розширенні панкреатичної протоки;</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б) каудальна (за Дювалем) з резекцією дистального відділу ПЗ.</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6. Резекція ПЗ:</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а) дистальна або каудальна;</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б) дистальна субтотальна;</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в) панкреатодуоденальна;</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г) тотальна дуоденопанкреатектомія головки або тіла ПЗ (виконують у випадках фіброзного дегенеративного панкреатиту).</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7. Оклюзія проток ПЗ за допомогою полімерних сполук (ціанокрилати, проламін, неопрен, тощо) призводять до атрофії паренхіми, абе зберігає острівцеві тканини.</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8. Операції на симпатичній нервовій системі:</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а) лівобічна спланхектомія;</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б) двобічна грудна спланхектомія й симпатектомія;</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mbria"/>
              </a:rPr>
              <a:t>в) постгангліонарна невротомія ПЗ.</a:t>
            </a:r>
            <a:endParaRPr b="0" lang="en-US" sz="11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ambria"/>
            </a:endParaRPr>
          </a:p>
        </p:txBody>
      </p:sp>
    </p:spTree>
  </p:cSld>
  <p:transition spd="slow">
    <p:push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179280" y="7560"/>
            <a:ext cx="878544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Cambria"/>
              </a:rPr>
              <a:t>Ускладнення хронічного панкреатиту</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ffffff"/>
                </a:solidFill>
                <a:uFillTx/>
                <a:latin typeface="Cambria"/>
              </a:rPr>
              <a:t>Кіста ПЗ</a:t>
            </a:r>
            <a:r>
              <a:rPr b="0" lang="ru-RU" sz="2000" spc="-1" strike="noStrike">
                <a:solidFill>
                  <a:srgbClr val="ffffff"/>
                </a:solidFill>
                <a:latin typeface="Cambria"/>
              </a:rPr>
              <a:t> – це обмежена капсулою порожнина, заповнена рідиною (панкреатичний сік, ексудат, гній), інтимно спаяна з головкою, тілом або хвостом органа, яка має на внутрішній поверхні епітеліальне вистелення.</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ffffff"/>
                </a:solidFill>
                <a:uFillTx/>
                <a:latin typeface="Cambria"/>
              </a:rPr>
              <a:t>Псевдокіста (несправжня кіста</a:t>
            </a:r>
            <a:r>
              <a:rPr b="0" lang="ru-RU" sz="2000" spc="-1" strike="noStrike" u="sng">
                <a:solidFill>
                  <a:srgbClr val="ffffff"/>
                </a:solidFill>
                <a:uFillTx/>
                <a:latin typeface="Cambria"/>
              </a:rPr>
              <a:t>) </a:t>
            </a:r>
            <a:r>
              <a:rPr b="0" lang="ru-RU" sz="2000" spc="-1" strike="noStrike">
                <a:solidFill>
                  <a:srgbClr val="ffffff"/>
                </a:solidFill>
                <a:latin typeface="Cambria"/>
              </a:rPr>
              <a:t>– порожнина в ПЗ, яка утворилась внаслідок її деструкції, обмежена капсулою, що не має внутрішньої епітеліального вистелення.</a:t>
            </a:r>
            <a:endParaRPr b="0" lang="en-US" sz="20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p:txBody>
      </p:sp>
    </p:spTree>
  </p:cSld>
  <p:transition spd="slow">
    <p:push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179280" y="7560"/>
            <a:ext cx="878544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ambria"/>
              </a:rPr>
              <a:t>Класифікація (за Бакулевим А.Н.та Виноградовим В.В., 1952):</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І. Вроджені кісти П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Дермоїдні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Тератоїдні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3. Вроджені адено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4. Фіброзно-кістозна дегенерац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5. Полікістозна дегенерац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ІІ. Запальні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Псевдо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Ретенційні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ІІІ. Травматичні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В результаті безпосереднього пошкодження залоз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В результаті непрямого пошкодження залоз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IV . Паразитарні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Ехінококоз залоз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Цистицеркоз П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V . Неопластичні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Кістадено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Кістаденокарцино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3. Кавернозні гемангіо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4. Кістозні епітеліо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ambria"/>
              </a:rPr>
              <a:t>За патоморфологією:</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Справжн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Псевдо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179280" y="7560"/>
            <a:ext cx="878544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Cambria"/>
              </a:rPr>
              <a:t>За клінічним перебігом псевдокіст:</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гостр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підгостр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хронічн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За тяжкістю перебігу:</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прості (неускладнен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ускладнен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Клініка.</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Больовий синдром.</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Диспептичні порушенн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3. Синдром функціональної недостатності П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4. Компресійний синдром.</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Діагностика.</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УЗД – ехонегативний утвір із чіткою капсулою, локалізація, розміри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Контрастне рентгендослідження шлунка та ДПК.</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3. Релаксаційна дуоденограф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4. Холецистохолангіографія – калькульозний холецистит, холелітіа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5. Ретроградна панкреатохолангіографія – змінена і деформована, нечасто розширена панкреатична протока, в окремих випадках – заповнення порожнини кісти контрастною речовиною.</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6. Комп'ютерна томографія – скупчення рідини, обмеженої капсулою різною щільності і товщин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7. Лабораторні дослідження – гіперамілаземія, амілазурія, стеато- та креаторея, інколи – гіперглікемія та глюкозур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179280" y="7560"/>
            <a:ext cx="878544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Стадії формування псевдокісти (Карагулян Р., 1972).</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Cambria"/>
              </a:rPr>
              <a:t>І стадія</a:t>
            </a:r>
            <a:r>
              <a:rPr b="0" lang="ru-RU" sz="1400" spc="-1" strike="noStrike">
                <a:solidFill>
                  <a:srgbClr val="ffffff"/>
                </a:solidFill>
                <a:latin typeface="Cambria"/>
              </a:rPr>
              <a:t> (триває 1-1,5 міс.) – в центрі запального процесу – інфільтрату в чепцевій сумці утворюється порожнина розпаду, яка захоплює навколишні тканин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ІІ стадія (2-3 міс.) – характеризується початком формування капсули псевдокісти. Кіста пухка, несформована, гострі запальні явища в ній вщухають.</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Cambria"/>
              </a:rPr>
              <a:t>ІІІ стадія</a:t>
            </a:r>
            <a:r>
              <a:rPr b="0" lang="ru-RU" sz="1400" spc="-1" strike="noStrike">
                <a:solidFill>
                  <a:srgbClr val="ffffff"/>
                </a:solidFill>
                <a:latin typeface="Cambria"/>
              </a:rPr>
              <a:t> (3-12 міс.) – завершення формування капсули псевдокісти. Остання зрощена з навколишніми органа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Cambria"/>
              </a:rPr>
              <a:t>IV стадія</a:t>
            </a:r>
            <a:r>
              <a:rPr b="0" lang="ru-RU" sz="1400" spc="-1" strike="noStrike">
                <a:solidFill>
                  <a:srgbClr val="ffffff"/>
                </a:solidFill>
                <a:latin typeface="Cambria"/>
              </a:rPr>
              <a:t> (починається через рік від виникнення кісти) – відмежування кісти. Кіста рухлива, легко виділяється зі злук із навколишніми органа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Ускладнення кіст.</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1. Перфорація у вільну черевну порожнину.</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2. Прорив у шлунок, ДПК, тонку, рідше – в товсту кишку.</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3. Нагноєння вмісту кіст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4. Арозивні кровотеч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5. Механічна жовтяниц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6. Портальна гіпертенз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7. Реактивний ексудативний плеврит.</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8. Малігнізац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179280" y="7560"/>
            <a:ext cx="8785440" cy="6373800"/>
          </a:xfrm>
          <a:prstGeom prst="rect">
            <a:avLst/>
          </a:prstGeom>
          <a:noFill/>
          <a:ln w="0">
            <a:noFill/>
          </a:ln>
        </p:spPr>
        <p:txBody>
          <a:bodyPr anchor="t">
            <a:normAutofit fontScale="94000"/>
          </a:bodyPr>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Лікування.</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Консевативне – відповідно до принципів лікування гострого або хронічного панкреатиту. При несприятливій динаміці перебігу захворювання призначають голод із постійним відсмоктуванням шлункового вмісту, парентеральним харчуванням та в/в введенням рідин. Використовують пункцію кіст через черевну стінку під контролем сонографії з аспірацією вмісту.</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Хірургічне лікування.</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На І стадії – консервативне лікування.</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На ІІ стадії – при нагноєнні псевдокісти – зовнішнє дренування кісти.</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На ІІІ стадії – внутрішнє дренування:</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цистоєюностомія на виключеній петлі тонкої кишки за Ру;</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цистоєюностомія з ентеро-ентероанастомозом за Брауном і заглушкою привідної петлі за Шалімовим;</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 </a:t>
            </a:r>
            <a:r>
              <a:rPr b="0" lang="ru-RU" sz="1400" spc="-1" strike="noStrike">
                <a:solidFill>
                  <a:srgbClr val="ffffff"/>
                </a:solidFill>
                <a:latin typeface="Cambria"/>
              </a:rPr>
              <a:t>марсупіалізація (розкриття та пришивання кісти до парієтальної очеревини та шкіри) – при нагноєнні кісти у тяжкохворих із септичним станом.</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На IV стадії – зовнішнє та внутрішнє дренування та радикальні операції:</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а) енуклеація кісти (вдається рідко);</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б) дистальна резекція ПЗ з кістою.</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ffffff"/>
                </a:solidFill>
                <a:uFillTx/>
                <a:latin typeface="Cambria"/>
              </a:rPr>
              <a:t>Рак ПЗ </a:t>
            </a:r>
            <a:r>
              <a:rPr b="0" lang="ru-RU" sz="1400" spc="-1" strike="noStrike">
                <a:solidFill>
                  <a:srgbClr val="ffffff"/>
                </a:solidFill>
                <a:latin typeface="Cambria"/>
              </a:rPr>
              <a:t>проявляється болем, жовтяницею, диспептичними розладами. Наростає білірубінемія за рахунок прямого білірубіну. Підвищення активності лужної фосфатази та рівня холестерину в крові. Ахолічний кал, стеаторея, креаторея.</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ffffff"/>
                </a:solidFill>
                <a:uFillTx/>
                <a:latin typeface="Cambria"/>
              </a:rPr>
              <a:t>Радіоімунологічний аналіз </a:t>
            </a:r>
            <a:r>
              <a:rPr b="0" lang="ru-RU" sz="1400" spc="-1" strike="noStrike">
                <a:solidFill>
                  <a:srgbClr val="ffffff"/>
                </a:solidFill>
                <a:latin typeface="Cambria"/>
              </a:rPr>
              <a:t>– в сироватці крові іноді вдається виявити підвищення рівня пухлинних маркерів: раково-ембріонального антигену, феритину.</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ffffff"/>
                </a:solidFill>
                <a:uFillTx/>
                <a:latin typeface="Cambria"/>
              </a:rPr>
              <a:t>Рентгенографія ШКТ</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ffffff"/>
                </a:solidFill>
                <a:uFillTx/>
                <a:latin typeface="Cambria"/>
              </a:rPr>
              <a:t>Сканування </a:t>
            </a:r>
            <a:r>
              <a:rPr b="0" lang="ru-RU" sz="1400" spc="-1" strike="noStrike">
                <a:solidFill>
                  <a:srgbClr val="ffffff"/>
                </a:solidFill>
                <a:latin typeface="Cambria"/>
              </a:rPr>
              <a:t>з використанням 75 Se -метіониіну виявляє вогнища зниженого накопичення ізотопа або відсутність його в тканині залози при ураженні пухлиною.</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ffffff"/>
                </a:solidFill>
                <a:uFillTx/>
                <a:latin typeface="Cambria"/>
              </a:rPr>
              <a:t>Лапароскопія </a:t>
            </a:r>
            <a:r>
              <a:rPr b="0" lang="ru-RU" sz="1400" spc="-1" strike="noStrike">
                <a:solidFill>
                  <a:srgbClr val="ffffff"/>
                </a:solidFill>
                <a:latin typeface="Cambria"/>
              </a:rPr>
              <a:t>– сам рак візуалізується нечасто. Діагностують дисемінацію очеревини та його метастатичні вогнища в печінці.</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Cambria"/>
              </a:rPr>
              <a:t>УЗД </a:t>
            </a:r>
            <a:r>
              <a:rPr b="0" lang="ru-RU" sz="1400" spc="-1" strike="noStrike">
                <a:solidFill>
                  <a:srgbClr val="ffffff"/>
                </a:solidFill>
                <a:latin typeface="Cambria"/>
              </a:rPr>
              <a:t>– місця підвищеної щільності тканини залози.</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u="sng">
                <a:solidFill>
                  <a:srgbClr val="ffffff"/>
                </a:solidFill>
                <a:uFillTx/>
                <a:latin typeface="Cambria"/>
              </a:rPr>
              <a:t>Комп'ютерна томографія</a:t>
            </a:r>
            <a:r>
              <a:rPr b="0" lang="ru-RU" sz="1400" spc="-1" strike="noStrike">
                <a:solidFill>
                  <a:srgbClr val="ffffff"/>
                </a:solidFill>
                <a:latin typeface="Cambria"/>
              </a:rPr>
              <a:t> – можна визначити як саму пухлину залози та її величину, так і метастатичні вузли.</a:t>
            </a:r>
            <a:endParaRPr b="0" lang="en-US" sz="1400" spc="-1" strike="noStrike">
              <a:solidFill>
                <a:srgbClr val="ffffff"/>
              </a:solidFill>
              <a:latin typeface="Cambria"/>
            </a:endParaRPr>
          </a:p>
          <a:p>
            <a:pPr marL="274320" indent="-27432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358560" y="483840"/>
            <a:ext cx="878508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ffff"/>
                </a:solidFill>
                <a:uFillTx/>
                <a:latin typeface="Cambria"/>
              </a:rPr>
              <a:t>Лікування.</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u="sng">
                <a:solidFill>
                  <a:srgbClr val="ffffff"/>
                </a:solidFill>
                <a:uFillTx/>
                <a:latin typeface="Cambria"/>
              </a:rPr>
              <a:t>Радикальні операції</a:t>
            </a:r>
            <a:r>
              <a:rPr b="0" i="1" lang="ru-RU" sz="1600" spc="-1" strike="noStrike">
                <a:solidFill>
                  <a:srgbClr val="ffffff"/>
                </a:solidFill>
                <a:latin typeface="Cambria"/>
              </a:rPr>
              <a:t>:</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1. ПДР (панкреатодуоденальна резекція).</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u="sng">
                <a:solidFill>
                  <a:srgbClr val="ffffff"/>
                </a:solidFill>
                <a:uFillTx/>
                <a:latin typeface="Cambria"/>
              </a:rPr>
              <a:t>Симптоматичні операції</a:t>
            </a:r>
            <a:r>
              <a:rPr b="0" i="1" lang="ru-RU" sz="1600" spc="-1" strike="noStrike">
                <a:solidFill>
                  <a:srgbClr val="ffffff"/>
                </a:solidFill>
                <a:latin typeface="Cambria"/>
              </a:rPr>
              <a:t>:</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1. Холецистоентероанастомоз.</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2. Холедоходуоденоанастомоз.</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Ці операції здатні ліквідувати жовтяницю та продовжити життя хворого на 5-9 міс.</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3. Субтотальна резекція залози із шлунком ( у випадках ураження тіла та хвоста ПЗ.</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4. Хіміотерапія може дати часткову ремісію (5-фторурацил, адріабластін, метотрексат).</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Телегамматерапія – дає деякий паліативний ефект.</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Cambria"/>
              </a:rPr>
              <a:t>Принципи панкреатодуоденальної резекції (ПДР).</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Операція передбачає виділення одним блоком головки ПЗ, дистального відділу шлунка, ДПК, дистальної частини загальної жовчної протоки.</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При цьому накладають 4 анастомози:</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 </a:t>
            </a:r>
            <a:r>
              <a:rPr b="0" lang="ru-RU" sz="1600" spc="-1" strike="noStrike">
                <a:solidFill>
                  <a:srgbClr val="ffffff"/>
                </a:solidFill>
                <a:latin typeface="Cambria"/>
              </a:rPr>
              <a:t>гастроентероанастомоз;</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 </a:t>
            </a:r>
            <a:r>
              <a:rPr b="0" lang="ru-RU" sz="1600" spc="-1" strike="noStrike">
                <a:solidFill>
                  <a:srgbClr val="ffffff"/>
                </a:solidFill>
                <a:latin typeface="Cambria"/>
              </a:rPr>
              <a:t>холецистоентеро- або холедохоентероанастомоз;</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 </a:t>
            </a:r>
            <a:r>
              <a:rPr b="0" lang="ru-RU" sz="1600" spc="-1" strike="noStrike">
                <a:solidFill>
                  <a:srgbClr val="ffffff"/>
                </a:solidFill>
                <a:latin typeface="Cambria"/>
              </a:rPr>
              <a:t>панкреатоентероанастомоз;</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 </a:t>
            </a:r>
            <a:r>
              <a:rPr b="0" lang="ru-RU" sz="1600" spc="-1" strike="noStrike">
                <a:solidFill>
                  <a:srgbClr val="ffffff"/>
                </a:solidFill>
                <a:latin typeface="Cambria"/>
              </a:rPr>
              <a:t>ентеро-ентероанастомоз.</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Інколи цю операцію виконують в два етапи:</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І – утворення біліодігестивного анастомоза для відведення жовчі й покращання функції печінки.</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mbria"/>
              </a:rPr>
              <a:t>ІІ – здійснюють через 3-4 тижня.</a:t>
            </a:r>
            <a:endParaRPr b="0" lang="en-US" sz="16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mbria"/>
            </a:endParaRPr>
          </a:p>
        </p:txBody>
      </p:sp>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549000"/>
            <a:ext cx="8229600" cy="5622840"/>
          </a:xfrm>
          <a:prstGeom prst="rect">
            <a:avLst/>
          </a:prstGeom>
          <a:noFill/>
          <a:ln w="0">
            <a:noFill/>
          </a:ln>
        </p:spPr>
        <p:txBody>
          <a:bodyPr anchor="t">
            <a:normAutofit fontScale="97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Cambria"/>
              </a:rPr>
              <a:t>Верхні брижові судини пересікають залозу зверху вниз, виходять з-під її нижнього краю та лягають на передню поверхню дванадцятипалої кишки. Біля верхнього краю залози від аорти відходить черевний стовбур, а вздовж нього вліво проходить селезінкова артерія. Остання разом із розміщеною під нею селезінковою веною переходить на передню поверхню хвоста, досягаючи селезінки.</a:t>
            </a:r>
            <a:endParaRPr b="0" lang="en-US" sz="22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Cambria"/>
              </a:rPr>
              <a:t>Всередині залози проходить головна панкреатична протока (</a:t>
            </a:r>
            <a:r>
              <a:rPr b="0" lang="en-US" sz="2200" spc="-1" strike="noStrike">
                <a:solidFill>
                  <a:srgbClr val="ffffff"/>
                </a:solidFill>
                <a:latin typeface="Rockwell"/>
              </a:rPr>
              <a:t>ductus pancreaticus Wirsungi), </a:t>
            </a:r>
            <a:r>
              <a:rPr b="0" lang="uk-UA" sz="2200" spc="-1" strike="noStrike">
                <a:solidFill>
                  <a:srgbClr val="ffffff"/>
                </a:solidFill>
                <a:latin typeface="Cambria"/>
              </a:rPr>
              <a:t>яка утворюється шляхом злиття долькових протоків та проходить в товщі органа від хвоста до головки, ближче до задньої поверхні органа. Її довжина складає 18-20 см, діаметр у дорослої людини 1-2 мм у ділянці хвоста і тіла та 3-4 мм у ділянці головки. В головці головна протока з'єднується з додатковою протокою підшлункової залози (</a:t>
            </a:r>
            <a:r>
              <a:rPr b="0" lang="en-US" sz="2200" spc="-1" strike="noStrike">
                <a:solidFill>
                  <a:srgbClr val="ffffff"/>
                </a:solidFill>
                <a:latin typeface="Rockwell"/>
              </a:rPr>
              <a:t>ductus Santorini), </a:t>
            </a:r>
            <a:r>
              <a:rPr b="0" lang="uk-UA" sz="2200" spc="-1" strike="noStrike">
                <a:solidFill>
                  <a:srgbClr val="ffffff"/>
                </a:solidFill>
                <a:latin typeface="Cambria"/>
              </a:rPr>
              <a:t>а потім впадає в загальну жовчну протоку, утворюючи ампулу фатерова соска ДПК. Додаткова протока підшлункової залози в 10% випадків відкривається на малому сосочку на 2 см вище від великого дуоденального сосочка.</a:t>
            </a:r>
            <a:endParaRPr b="0" lang="en-US" sz="2200" spc="-1" strike="noStrike">
              <a:solidFill>
                <a:srgbClr val="ffffff"/>
              </a:solidFill>
              <a:latin typeface="Cambria"/>
            </a:endParaRPr>
          </a:p>
        </p:txBody>
      </p:sp>
    </p:spTree>
  </p:cSld>
  <p:transition spd="slow">
    <p:push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179280" y="466200"/>
            <a:ext cx="878544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Cambria"/>
              </a:rPr>
              <a:t>Нориці підшлункової залози</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Cambria"/>
              </a:rPr>
              <a:t>Етіологія і патогенез.</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Нориці підшлункової залози (ПЗ) як ускладнення будь-якого захворювання або травми ПЗ частіше всього виникають в результаті неправильного лікування або є наслідком недостатньо правильно виконаної операції. Тому питання причини виникнення свищів підшлункової залози викликає суперечки.</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Кісти ПЗ, переважно великі, найбільш часто ускладнюються внутрішніми та зовнішніми свищами. Такі панкреатичні свищі, якщо вони не пов'язані з порожниною кісти, а з вивідними або частковими протоками ПЗ, слід відрізняти від зовнішніх, що виникли після травми або операції. В тих випадках, коли виділяється не вміст кісти, а активний панкреатичний сік, що збагачений ферментами, лікування ускладнюється.</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Біопсія ПЗ, яку необхідно проводити з метою диференціальної діагностики, наприклад, між хронічним панкреатитом і раком ПЗ, може іноді ускладнитись норицею ПЗ, що протягом тривалого часу не загоюється.</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Найбільш часто панкреатичні нориці виникають після різних операцій з приводу панкреатичних кіст. Частіше цим ускладненням завершується зовнішнє дренування і марсупіалізація кіст (до 30%).</a:t>
            </a:r>
            <a:endParaRPr b="0" lang="en-US" sz="18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Tree>
  </p:cSld>
  <p:transition spd="slow">
    <p:push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52080" y="549000"/>
            <a:ext cx="8785080" cy="63738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Cambria"/>
              </a:rPr>
              <a:t>Нориці панкреатичних кіст:</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1) внутрішн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а) поодинок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б) подвійн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2) комбіновані (внутрішні – зовнішн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3) зовнішн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а) спонтанн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б) післятравматичн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в) післяопераційні.</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Мілонов О.Б. та співавт. вважають більш правильним розподіл панкреатичних свищів за їх зв'язком з протоковою системою ПЗ (із сполученням та без нього), за етіологією (гострий панкреатит, зовнішній дренаж після операції, травма), за характером (внутрішній, зовнішній, комбінований) і за анатомічною будовою (Т-подібний, термінальний, тощо).</a:t>
            </a:r>
            <a:endParaRPr b="0" lang="en-US" sz="18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mbria"/>
            </a:endParaRPr>
          </a:p>
        </p:txBody>
      </p:sp>
    </p:spTree>
  </p:cSld>
  <p:transition spd="slow">
    <p:push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250560" y="333000"/>
            <a:ext cx="8785080" cy="637380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ffffff"/>
                </a:solidFill>
                <a:uFillTx/>
                <a:latin typeface="Cambria"/>
              </a:rPr>
              <a:t>Клініка та діагностика.</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Внутрішні нориці</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еликі кісти ПЗ, що існують протягом тривалого часу, небезпечні внаслідок спонтанного прориву в навколишній порожнистий орган. Причиною такого прориву часто є пептична виразка ШКТ із значною кровотечею із арозованої судини. Часто ці цистодігестивні свищі можуть виникати в результаті зрощення кісти з навколишніми органами і не супроводжуватися кровотечею. В деяких випадках при відносно невеликих розмірах кіст процес перебігає безсимптомно.</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Найбільш часто внутрішні нориці сполучаються з просвітом шлунка або товстої кишки; рідше – прориви кіст в плевральну або черевну порожнину.</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Розрізняють поодинокі та подвійні (множинні) внутрішні нориці. Великі кісти, після випорожнення в просвіт товстої кишки, через деякий час знов наповнюються, стають напруженими та, зростаючись з іншим порожнистим органом, викликають пролежень стінки і прориваються в порожнину цього органа. Такі свищі називаються подвійними внутрішніми норицями.</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Клінічна картина внутрішнього свища може бути різноманітною. Радзиховський А.П. розрізняє три періоди розвитку нориці. І період – формування нориці характеризується больовим та диспептичним синдромами, температурною реакцією, початковими ознаками формування інфільтрата. Формування свища вважається також і початком ІІ періоду його розвитку. Якщо нориця не закривається, то в подальшому спочатку клінічно проявляються порушення гомеостаза; наступає ІІІ період, що характеризується, в першу чергу, дегенеративно-дистрофічними змінами ПЗ.</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Симптоми захворювання неспецифічні. Це – інфільтрат в черевній порожнині; свищ; гіперемія передньої черевної стінки; мацерація шкіри; біль в епігастральній ділянці; субферилітет, особливо вечорами; лейкоцитоз із зсувом формули вліво; сухість в роті; схуднення; олігурія; стеаторея; диспепсія.</a:t>
            </a:r>
            <a:endParaRPr b="0" lang="en-US" sz="1400" spc="-1" strike="noStrike">
              <a:solidFill>
                <a:srgbClr val="ffffff"/>
              </a:solidFill>
              <a:latin typeface="Cambria"/>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179280" y="7560"/>
            <a:ext cx="8785440" cy="6373800"/>
          </a:xfrm>
          <a:prstGeom prst="rect">
            <a:avLst/>
          </a:prstGeom>
          <a:noFill/>
          <a:ln w="0">
            <a:noFill/>
          </a:ln>
        </p:spPr>
        <p:txBody>
          <a:bodyPr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Зовнішні нориці</a:t>
            </a:r>
            <a:endParaRPr b="0" lang="en-US" sz="14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При поширеному некрозі ПЗ некротичні маси із значною кількістю ферментів можуть викликати самоперетравлення навколишніх тканин, що призводить до формування отвору на передній стінці живота, через яке відбувається відтік панкреатичного соку.</a:t>
            </a:r>
            <a:endParaRPr b="0" lang="en-US" sz="14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 зв'язку із втратами панкреатичного секрету у хворих порушуються умови травлення, що призводить до змін в ПЗ і в організмі в цілому. Симптоматика зовнішніх свищів формується у відповідності з вищевказаним. Через норицю може виділятися крошкоподібна маса, іноді з гноєм, прозорий або мутний панкреатичний сік, жовч, кишковий або шлунковий вміст. Домішки гною завжди характерні для інфікування вогнища. При бакзасіві визначають мікрофлору: частіше всього це асоціації мікроорганізмів, протей, кишкова паличка, стафілокок, в деяких випадках – синьогнійна паличка, або неклостридіальні види бактерій, що володіють вираженим сморідним запахом.</a:t>
            </a:r>
            <a:endParaRPr b="0" lang="en-US" sz="14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Комбіновані нориці</a:t>
            </a:r>
            <a:endParaRPr b="0" lang="en-US" sz="14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Цим терміном визначають поєднання внутрішнього та зовнішнього панкреатичних свищів. При цьому один із свищів відкривається в просвіт порожнистого органа, а інший – назовні, частіше всього на шкірі передньої черевної стінки. Утворення свищів із кісти може відбуватись в 2 етапи: спочатку кіста звільняється від вмісту, наприклад, в порожнину товстої кишки, потім свищ закривається і кіста зпадається. При накопиченні рідини в порожнині кісти або внаслідок нагноєння кіста розкривається назовні, утворюючи зовнішній свищ. Утворення зовнішнього хода – сприятливий вихід для хворого, оскільки це знижує ризик перфорації або повторного прориву кісти в порожину порожнистого органа. Комбіновані нориці можуть бути первинними та рецидивуючими. Утворенню свища сприяє утруднений відтік панкреатичного секрета, соковидільна функція, що не переривається, та прогресуюче напруження панкреатичної кісти.</a:t>
            </a:r>
            <a:endParaRPr b="0" lang="en-US" sz="14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Клінічна картина залежить від фази захворювання. Утворення внутрішнього свища супроводжується підвищенням температури, пропасницею, проносом, відчуттям слабкості. Поступово ці симптоми зникають, що супроводжується покращенням станого хворого. Прориву кісти передує висока температура, тупий, іноді гострий біль в епігастрії, почервоніння і флюктуація на ділянці черевної стінки. При утворенні зовнішнього хода свища виділяється значна кількість гнійної рідини, після чого стан хворого покращується, але із свища періодично виділяється вміст, що подразнює навколишню шкіру.</a:t>
            </a:r>
            <a:endParaRPr b="0" lang="en-US" sz="14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53880" y="483840"/>
            <a:ext cx="8785440" cy="63738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Післятравматичні нориці</a:t>
            </a:r>
            <a:endParaRPr b="0" lang="en-US" sz="14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иникають після травми ПЗ і розвиваються на фоні функціонально повноцінної паренхіми ПЗ, не пошкодженій дегенеративним або специфічним процесом. Але травма ПЗ з пошкодженням вивідної або часткової протоки завжди призводить до виділення в порожнину рани біологічно активного панкреатичного соку, що починає розплавляти навколишні тканини, створюючи умови для реактивного запалення.</a:t>
            </a:r>
            <a:endParaRPr b="0" lang="en-US" sz="14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Cambria"/>
              </a:rPr>
              <a:t>Післяопераційні нориці</a:t>
            </a:r>
            <a:endParaRPr b="0" lang="en-US" sz="1400" spc="-1" strike="noStrike">
              <a:solidFill>
                <a:srgbClr val="ffffff"/>
              </a:solidFill>
              <a:latin typeface="Cambria"/>
            </a:endParaRPr>
          </a:p>
          <a:p>
            <a:pPr>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ідрізняються від післятравматичних більш тяжким перебігом, особливо, якщо їх утворенню передує тяжкий запально-дегенеративний процес в ПЗ. Утворюються в результаті хірургічних втручань з приводу гострого та хронічного панкреатиту та пухлин ПЗ.</a:t>
            </a:r>
            <a:endParaRPr b="0" lang="en-US" sz="14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У деяких хворих на 5-7 добу після операції на фоні помірних локального або розлитого болю в епігастральній ділянці з'являється гіпертермія, припухлість в ділянці рани та інфільтрат, частіше в центрі. При розкритті інфільтрата, що нагноївся, виділяється мутний вміст. В подальшому гіперемія зникає, біль вщухає та залишається невеликий отвір, з якого виділяється чистий панкреатичний сік – світлий, прозорий, без запаха, кількість якого коливається.</a:t>
            </a:r>
            <a:endParaRPr b="0" lang="en-US" sz="14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 діагностиці нориць ПЗ перш за все звертають увагу на анамнез, характер секрету. Панкреатичні свищі необхідно диференціювати з кишковими свищами, частіше всього з дуоденальними. Вміст з панкреатичного свища прозорий, з високими показниками амілази – до 20048 Од та вище. В деяких випадках вміст може бути серозно-гнійним і в значній кількості. При дуоденальних норицях – вміст мутний, забарвлений жовчю, іноді з домішками харчових мас; кількість досягає – 3-4 л. Заключний діагноз панкреатичного свища встановлюють шляхом фістулографії.</a:t>
            </a:r>
            <a:endParaRPr b="0" lang="en-US" sz="1400" spc="-1" strike="noStrike">
              <a:solidFill>
                <a:srgbClr val="ffffff"/>
              </a:solidFill>
              <a:latin typeface="Cambria"/>
            </a:endParaRPr>
          </a:p>
        </p:txBody>
      </p:sp>
    </p:spTree>
  </p:cSld>
  <p:transition spd="slow">
    <p:push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36240" y="483840"/>
            <a:ext cx="8785080" cy="6373800"/>
          </a:xfrm>
          <a:prstGeom prst="rect">
            <a:avLst/>
          </a:prstGeom>
          <a:noFill/>
          <a:ln w="0">
            <a:noFill/>
          </a:ln>
        </p:spPr>
        <p:txBody>
          <a:bodyPr anchor="t">
            <a:normAutofit fontScale="98000"/>
          </a:bodyPr>
          <a:p>
            <a:pPr marL="285840" indent="-2858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ffff"/>
                </a:solidFill>
                <a:uFillTx/>
                <a:latin typeface="Cambria"/>
              </a:rPr>
              <a:t>Лікування.</a:t>
            </a:r>
            <a:endParaRPr b="0" lang="en-US" sz="1800" spc="-1" strike="noStrike">
              <a:solidFill>
                <a:srgbClr val="ffffff"/>
              </a:solidFill>
              <a:latin typeface="Cambria"/>
            </a:endParaRPr>
          </a:p>
          <a:p>
            <a:pPr marL="285840" indent="-2858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Консервативному лікуванню підлягають неповні та неускладнені нориці ПЗ, що виникли після травми або маніпуляцій (розрив, розріз, біопсія, тощо) та деякі види неповних свищів після запального процесу, що завершився, при деструктивному панкреатиті. Повні, а також ускладнені рецидивні фістули, особливо ті, що розвинулись з кіст, необхідно лікувати тільки хірургічним шляхом, оскільки консервативне лікування неефективне.</a:t>
            </a:r>
            <a:endParaRPr b="0" lang="en-US" sz="1800" spc="-1" strike="noStrike">
              <a:solidFill>
                <a:srgbClr val="ffffff"/>
              </a:solidFill>
              <a:latin typeface="Cambria"/>
            </a:endParaRPr>
          </a:p>
          <a:p>
            <a:pPr marL="285840" indent="-2858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Для консервативного лікування запропоновано багато різноманітних медикаментозних, хімічних та біологічних засобів, методик дієтотерапії, лікарських засобів, що пригнічують панкреатичну секрецію. Для цього також застосовують атропін, ефедрін, вікалін, пентоксил, кортизон, АКТГ, тощо. Для захисту шкіри від мацерації зовнішній отвір свища обробляють йодною настоянкою, нітратом серебра, сульфатом цинка, сухою кров'ю. В останні роки для лікування свищів застосовують інактиватор трипсину – трасилол в дозі від 10000 до 5000 ОД внутрішньовенно; його ж можна вводити в в порожнину свища.</a:t>
            </a:r>
            <a:endParaRPr b="0" lang="en-US" sz="1800" spc="-1" strike="noStrike">
              <a:solidFill>
                <a:srgbClr val="ffffff"/>
              </a:solidFill>
              <a:latin typeface="Cambria"/>
            </a:endParaRPr>
          </a:p>
          <a:p>
            <a:pPr marL="285840" indent="-2858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mbria"/>
              </a:rPr>
              <a:t>Сучасним методом лікування панкреатичних нориць є пломбування сіліконовим еластоміром або іншими речовинами, що швидко </a:t>
            </a:r>
            <a:r>
              <a:rPr b="0" lang="ru-RU" sz="1800" spc="-1" strike="noStrike" u="sng">
                <a:solidFill>
                  <a:srgbClr val="ffffff"/>
                </a:solidFill>
                <a:uFillTx/>
                <a:latin typeface="Cambria"/>
              </a:rPr>
              <a:t>затвердевают. </a:t>
            </a:r>
            <a:r>
              <a:rPr b="0" lang="ru-RU" sz="1800" spc="-1" strike="noStrike">
                <a:solidFill>
                  <a:srgbClr val="ffffff"/>
                </a:solidFill>
                <a:latin typeface="Cambria"/>
              </a:rPr>
              <a:t>В свищовий хід під ретгенологічним контролем проводять ренгенконтрастний катетер, по якому за допомогою свища вводять 10 мл сіліконового композиційного матеріала, час загустіння якого 4-6 хв. </a:t>
            </a:r>
            <a:endParaRPr b="0" lang="en-US" sz="1800" spc="-1" strike="noStrike">
              <a:solidFill>
                <a:srgbClr val="ffffff"/>
              </a:solidFill>
              <a:latin typeface="Cambria"/>
            </a:endParaRPr>
          </a:p>
        </p:txBody>
      </p:sp>
    </p:spTree>
  </p:cSld>
  <p:transition spd="slow">
    <p:push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79280" y="7560"/>
            <a:ext cx="8785440" cy="6373800"/>
          </a:xfrm>
          <a:prstGeom prst="rect">
            <a:avLst/>
          </a:prstGeom>
          <a:noFill/>
          <a:ln w="0">
            <a:noFill/>
          </a:ln>
        </p:spPr>
        <p:txBody>
          <a:bodyPr anchor="t">
            <a:normAutofit fontScale="93000"/>
          </a:bodyPr>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Адекватність пломбування протоки та свища контролюють на телеекрані. Протягом 2-3 діб у хворого зберігаються больові відчуття в лівому підребер'єї і амілаземія; поступово біль вщухає, свищ закривається, після контрольного досліження хворий може бути виписаний. При цьому порушень зовнішньо- та внутрішньосекреторної функції ПЗ не спостерігається.</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Лікування внутрішніх свищів ПЗ тільки хірургічне. Об'єм операції залежить від розмірів та локалізації кісти і панкреатичного свища та результатів ревізї патологічного вогнища.</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При лікуванні комбінованих нориць об'єм операції встановлюють на операційному столі. Хірургічне лікування розглядає різноманітні варіанти трьох принципових методик ліквідації свища: а) повне видалення свища на всьому протязі від шкіри до ПЗ; б) резекцію ПЗ разом із свищом; в) анастомоз виділенного свища з худою кишкою; г) пломбування хода свища та сегмента панкреатичної протоки полімеризуючою речовиною.</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При термінальному та Т-подібному видах свищів найбільш ефективне консервативне лікування. Після вщухання запального процеса відновлюється адекватна прохідність ДПК і свищ вже не функціонує. При порушенні прохідності панкреатичної протоки, що підтримує тривале існування свища, виконують операцію.</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Cambria"/>
              </a:rPr>
              <a:t>Повне видалення панкреатичного свища</a:t>
            </a:r>
            <a:r>
              <a:rPr b="0" lang="ru-RU" sz="1400" spc="-1" strike="noStrike">
                <a:solidFill>
                  <a:srgbClr val="ffffff"/>
                </a:solidFill>
                <a:latin typeface="Cambria"/>
              </a:rPr>
              <a:t> шляхом висічення необхідно проводити, попередньо вводячи еластичний буж або заповнюючи під тиском ход свища розчином метиленового синього.</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Cambria"/>
              </a:rPr>
              <a:t>Резекця ПЗ разом із норицею </a:t>
            </a:r>
            <a:r>
              <a:rPr b="0" lang="ru-RU" sz="1400" spc="-1" strike="noStrike">
                <a:solidFill>
                  <a:srgbClr val="ffffff"/>
                </a:solidFill>
                <a:latin typeface="Cambria"/>
              </a:rPr>
              <a:t>показана у випадку, коли в ПЗ виражені глибокі зміни та виділення свищового хода технічно ускладнюється.</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Операція виправдана при зовнішніх панкреатичних норицях, що протягом тривалого часу не загоюються, в основі яких лежать неусунені патологічні процеси в ПЗ. Найбільш часто операція показана при комбінації кісти із свищом та при сполученні їх з крупними панкреатичними протоками, а також при підозрі на кістозне переродження ПЗ з малігнізацією.</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ffff"/>
                </a:solidFill>
                <a:uFillTx/>
                <a:latin typeface="Cambria"/>
              </a:rPr>
              <a:t>Анастомоз свища з худою кишкою </a:t>
            </a:r>
            <a:r>
              <a:rPr b="0" lang="ru-RU" sz="1400" spc="-1" strike="noStrike">
                <a:solidFill>
                  <a:srgbClr val="ffffff"/>
                </a:solidFill>
                <a:latin typeface="Cambria"/>
              </a:rPr>
              <a:t>накладається при рясному витіканні панкреатичного соку, зростаючій втраті білків та електролітів, при неможливості видалити свищ до самого дна.</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mbria"/>
              </a:rPr>
              <a:t>Вшивання панкреатичного свища в жовчний міхур небезпечно, оскільки суміш жовчі та панкреатичного соку біологічно дуже активна і може викликати розвиток панкреронекрозу. Внутрішньоочеревинна імплантація свища в інший порожнистий орган небезпечна внаслідок розходження швів анастомоза під впливом панкреатичних ферментів або перистальтики органа. Менш небезпечний перитонеальними ускладненнями анастомоз нориці з виключеною петлею кишки, виконаний підшкірно, позаочеревинно.</a:t>
            </a:r>
            <a:endParaRPr b="0" lang="en-US" sz="1400" spc="-1" strike="noStrike">
              <a:solidFill>
                <a:srgbClr val="ffffff"/>
              </a:solidFill>
              <a:latin typeface="Cambria"/>
            </a:endParaRPr>
          </a:p>
          <a:p>
            <a:pPr marL="271440" indent="-27144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mbria"/>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95280" y="692280"/>
            <a:ext cx="8291520" cy="5479920"/>
          </a:xfrm>
          <a:prstGeom prst="rect">
            <a:avLst/>
          </a:prstGeom>
          <a:noFill/>
          <a:ln w="0">
            <a:noFill/>
          </a:ln>
        </p:spPr>
        <p:txBody>
          <a:bodyPr anchor="t">
            <a:normAutofit fontScale="98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mbria"/>
              </a:rPr>
              <a:t>Кровопостачання.</a:t>
            </a:r>
            <a:r>
              <a:rPr b="0" lang="ru-RU" sz="2400" spc="-1" strike="noStrike">
                <a:solidFill>
                  <a:srgbClr val="ffffff"/>
                </a:solidFill>
                <a:latin typeface="Cambria"/>
              </a:rPr>
              <a:t> Тіло та хвіст отримують кров з селезінкової артерії. Кровопостачання головки підшлункової залози здійснюється через верхні та нижні панкреато-дуоденальні артерії. Верхня панкреатодуоденальна артерія — гілка шлунково-дуоденальної артерії, нижня — гілка верхньої брижової артерії. Гілки артерій широко анастомозують в тканині підшлункової залози. Вени проходять разом з артеріями. Із тіла та хвоста кров по дрібних панкреатичних венах відтікає через селезінкову вену у ворітну. Відтік крові з головки здійснюється по верхній панкреатодуоденальній вені, яка впадає у кінцеву частину селезінкової вени, та нижній панкреатодуоденальній вені, яка впадає у верхню брижову вену. Зі селезінкової та верхньої брижової вени кров відтікає у ворітну вену.</a:t>
            </a:r>
            <a:endParaRPr b="0" lang="en-US" sz="2400" spc="-1" strike="noStrike">
              <a:solidFill>
                <a:srgbClr val="ffffff"/>
              </a:solidFill>
              <a:latin typeface="Cambria"/>
            </a:endParaRPr>
          </a:p>
        </p:txBody>
      </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250560" y="475920"/>
            <a:ext cx="4105080" cy="5977080"/>
          </a:xfrm>
          <a:prstGeom prst="rect">
            <a:avLst/>
          </a:prstGeom>
          <a:noFill/>
          <a:ln w="0">
            <a:noFill/>
          </a:ln>
        </p:spPr>
        <p:txBody>
          <a:bodyPr anchor="t">
            <a:normAutofit fontScale="98000"/>
          </a:bodyPr>
          <a:p>
            <a:pPr marL="285840" indent="-285840">
              <a:lnSpc>
                <a:spcPct val="60000"/>
              </a:lnSpc>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mbria"/>
            </a:endParaRPr>
          </a:p>
          <a:p>
            <a:pPr marL="285840" indent="-28584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Рисунок  – Вивідні протоки підшлункової залози та місця їх впадіння у дванадцятипалу кишку:</a:t>
            </a:r>
            <a:endParaRPr b="0" lang="en-US" sz="1900" spc="-1" strike="noStrike">
              <a:solidFill>
                <a:srgbClr val="ffffff"/>
              </a:solidFill>
              <a:latin typeface="Cambria"/>
            </a:endParaRPr>
          </a:p>
          <a:p>
            <a:pPr marL="285840" indent="-28584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1 — </a:t>
            </a:r>
            <a:r>
              <a:rPr b="0" lang="en-US" sz="1900" spc="-1" strike="noStrike">
                <a:solidFill>
                  <a:srgbClr val="ffffff"/>
                </a:solidFill>
                <a:latin typeface="Rockwell"/>
              </a:rPr>
              <a:t>ductus choledochus; 2 — v. portae; 3 — a. hepatica communis; 4 — ductus pancreaticus; 5 — pancreas; 6 — flexura duodenojejunalis; 7 — papilla duodeni major; 8 — ductus pancreaticus accessorius; 9 — papilla duodeni minor; 10 — duodenum</a:t>
            </a:r>
            <a:endParaRPr b="0" lang="en-US" sz="1900" spc="-1" strike="noStrike">
              <a:solidFill>
                <a:srgbClr val="ffffff"/>
              </a:solidFill>
              <a:latin typeface="Cambria"/>
            </a:endParaRPr>
          </a:p>
          <a:p>
            <a:pPr marL="285840" indent="-28584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mbria"/>
            </a:endParaRPr>
          </a:p>
          <a:p>
            <a:pPr marL="285840" indent="-28584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Інтрамуральні відділи загальної жовчної протоки та протоки підшлункової залози, а також ампула фатерова сосочка оточені гладком'язовими волокнами, які формують сфінктер Одді, що регулює порційне надходження жовчі та панкреатичного соку в ДПК.</a:t>
            </a:r>
            <a:endParaRPr b="0" lang="en-US" sz="1900" spc="-1" strike="noStrike">
              <a:solidFill>
                <a:srgbClr val="ffffff"/>
              </a:solidFill>
              <a:latin typeface="Cambria"/>
            </a:endParaRPr>
          </a:p>
        </p:txBody>
      </p:sp>
      <p:pic>
        <p:nvPicPr>
          <p:cNvPr id="409" name="Рисунок 2" descr="http://medstudia.com/wp-content/uploads/sites/2/2012/05/043012_2201_1.png"/>
          <p:cNvPicPr/>
          <p:nvPr/>
        </p:nvPicPr>
        <p:blipFill>
          <a:blip r:embed="rId1"/>
          <a:stretch/>
        </p:blipFill>
        <p:spPr>
          <a:xfrm>
            <a:off x="4473720" y="1484280"/>
            <a:ext cx="4000320" cy="2592360"/>
          </a:xfrm>
          <a:prstGeom prst="rect">
            <a:avLst/>
          </a:prstGeom>
          <a:ln w="0">
            <a:noFill/>
          </a:ln>
        </p:spPr>
      </p:pic>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179280" y="188640"/>
            <a:ext cx="5400720" cy="6119640"/>
          </a:xfrm>
          <a:prstGeom prst="rect">
            <a:avLst/>
          </a:prstGeom>
          <a:noFill/>
          <a:ln w="0">
            <a:noFill/>
          </a:ln>
        </p:spPr>
        <p:txBody>
          <a:bodyPr anchor="t">
            <a:normAutofit fontScale="95000"/>
          </a:bodyPr>
          <a:p>
            <a:pPr marL="277200" indent="-277200">
              <a:lnSpc>
                <a:spcPct val="70000"/>
              </a:lnSpc>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mbria"/>
            </a:endParaRPr>
          </a:p>
          <a:p>
            <a:pPr marL="277200" indent="-27720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ambria"/>
              </a:rPr>
              <a:t>Рис.  Схема будови підшлункової залози і співвідношення її з іншими органами (вигляд ззаду) : 1 — голівка підшлункової залози; 2 — горизонтальна частина дванадцятипалої кишки; 3 — висхідна частина дванадцятипалої кишки; 4 — порожниста кишка; 5 — хвіст підшлункової залози; 6 — тіло підшлункової залози; 7 — верхня брижова артерія; 8 — селезінкова вена; 9 — ворітна вена; 10 — загальна печінкова протока; 11 — міхурна протока; 12 — жовчний міхур; 13 — загальна жовчна протока; 14 — протока підшлункової залози; 15 — низхідна частина дванадцятипалої кишки; 16 — очеревина.</a:t>
            </a:r>
            <a:endParaRPr b="0" lang="en-US" sz="2200" spc="-1" strike="noStrike">
              <a:solidFill>
                <a:srgbClr val="ffffff"/>
              </a:solidFill>
              <a:latin typeface="Cambria"/>
            </a:endParaRPr>
          </a:p>
        </p:txBody>
      </p:sp>
      <p:pic>
        <p:nvPicPr>
          <p:cNvPr id="411" name="Рисунок 1" descr="http://medstudia.com/wp-content/uploads/sites/2/2012/05/043012_2201_2.png"/>
          <p:cNvPicPr/>
          <p:nvPr/>
        </p:nvPicPr>
        <p:blipFill>
          <a:blip r:embed="rId1"/>
          <a:stretch/>
        </p:blipFill>
        <p:spPr>
          <a:xfrm>
            <a:off x="5651640" y="836640"/>
            <a:ext cx="3073320" cy="2346120"/>
          </a:xfrm>
          <a:prstGeom prst="rect">
            <a:avLst/>
          </a:prstGeom>
          <a:ln w="0">
            <a:noFill/>
          </a:ln>
        </p:spPr>
      </p:pic>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68000" y="549000"/>
            <a:ext cx="8567640" cy="6264360"/>
          </a:xfrm>
          <a:prstGeom prst="rect">
            <a:avLst/>
          </a:prstGeom>
          <a:noFill/>
          <a:ln w="0">
            <a:noFill/>
          </a:ln>
        </p:spPr>
        <p:txBody>
          <a:bodyPr anchor="t">
            <a:normAutofit fontScale="99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ffff"/>
                </a:solidFill>
                <a:latin typeface="Cambria"/>
              </a:rPr>
              <a:t>Іннервація.</a:t>
            </a:r>
            <a:r>
              <a:rPr b="0" lang="ru-RU" sz="1900" spc="-1" strike="noStrike">
                <a:solidFill>
                  <a:srgbClr val="ffffff"/>
                </a:solidFill>
                <a:latin typeface="Cambria"/>
              </a:rPr>
              <a:t> ПЗ здійснюється гілками блукаючих нервів та пятьох сплетень (сонячного, печінкового, селезінкового, верхнього брижового та лівого ниркового). Іннервація ПЗ здійснюється в основному лівим блукаючим нервом та постгангліонарними волокнами лівих черевних нервів. Вважають, що всі нерви підшлункової залози змішані – симпатичні та парасимпатичні.</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Тканина підшлункової залози має альвеолярно-трубчасту будову, вона розділена сполучною тканиною на часточки. Залоза складається з ендокринної та екзокринної частин.</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Ендокринна частина утворена групами панкреатичних острівців (</a:t>
            </a:r>
            <a:r>
              <a:rPr b="0" lang="en-US" sz="1900" spc="-1" strike="noStrike">
                <a:solidFill>
                  <a:srgbClr val="ffffff"/>
                </a:solidFill>
                <a:latin typeface="Rockwell"/>
              </a:rPr>
              <a:t>insulae pancreatici) (</a:t>
            </a:r>
            <a:r>
              <a:rPr b="0" lang="ru-RU" sz="1900" spc="-1" strike="noStrike">
                <a:solidFill>
                  <a:srgbClr val="ffffff"/>
                </a:solidFill>
                <a:latin typeface="Cambria"/>
              </a:rPr>
              <a:t>острівці Лангерганса), оточених густими капілярними сітками. Загальна кількість острівців коливається в межах від одного до двох млн, а діаметр кожного 100 – 300 мкм. Переважають В-клітини (60- 80%), які секретують інсулін, А-клітини (10-30%) виробляють глюкагон, </a:t>
            </a:r>
            <a:r>
              <a:rPr b="0" lang="en-US" sz="1900" spc="-1" strike="noStrike">
                <a:solidFill>
                  <a:srgbClr val="ffffff"/>
                </a:solidFill>
                <a:latin typeface="Rockwell"/>
              </a:rPr>
              <a:t>D-</a:t>
            </a:r>
            <a:r>
              <a:rPr b="0" lang="ru-RU" sz="1900" spc="-1" strike="noStrike">
                <a:solidFill>
                  <a:srgbClr val="ffffff"/>
                </a:solidFill>
                <a:latin typeface="Cambria"/>
              </a:rPr>
              <a:t>клітини (близько 10%) синтезують соматостатин. Чисельні В-клітини займають внутрішню частину острівця. А-клітини розміщуються групами по всьому острівцю.</a:t>
            </a:r>
            <a:endParaRPr b="0" lang="en-US" sz="1900" spc="-1" strike="noStrike">
              <a:solidFill>
                <a:srgbClr val="ffffff"/>
              </a:solidFill>
              <a:latin typeface="Cambri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ambria"/>
              </a:rPr>
              <a:t>Екзокринна частина являє собою складну альвеолярно–трубчасту залозу, розділену на часточки дуже тонкими сполучнотканними перегородками, які відходять від капсули. В часточках тісно лежать ацинуси розмірами 100-150 мкм, утворені одним шаром ациноцитів пірамідальної форми числом 10-12. Ацинус із вставною протокою є структурно – функціональною одиницею екзокринної частини підшлункової залози . Секрет надходить в просвіт ацинуса через апікальну поверхню клітини (мерокринна секреція). У центрі ацинуса розташовуються центроацинозні епітеліоцити, які утворюють стінку вставної протоки.</a:t>
            </a:r>
            <a:endParaRPr b="0" lang="en-US" sz="1900" spc="-1" strike="noStrike">
              <a:solidFill>
                <a:srgbClr val="ffffff"/>
              </a:solidFill>
              <a:latin typeface="Cambria"/>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179280" y="217440"/>
            <a:ext cx="8640720" cy="6307200"/>
          </a:xfrm>
          <a:prstGeom prst="rect">
            <a:avLst/>
          </a:prstGeom>
          <a:noFill/>
          <a:ln w="0">
            <a:noFill/>
          </a:ln>
        </p:spPr>
        <p:txBody>
          <a:bodyPr anchor="t">
            <a:normAutofit fontScale="94000"/>
          </a:bodyPr>
          <a:p>
            <a:pPr marL="274320" indent="-274320">
              <a:lnSpc>
                <a:spcPct val="80000"/>
              </a:lnSpc>
              <a:buClr>
                <a:srgbClr val="72a37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mbria"/>
              </a:rPr>
              <a:t>ФІЗІОЛОГІЯ ПІДШЛУНКОВОЇ ЗАЛОЗИ</a:t>
            </a:r>
            <a:r>
              <a:rPr b="0" lang="ru-RU" sz="2000" spc="-1" strike="noStrike">
                <a:solidFill>
                  <a:srgbClr val="ffffff"/>
                </a:solidFill>
                <a:latin typeface="Cambria"/>
              </a:rPr>
              <a:t>.</a:t>
            </a:r>
            <a:endParaRPr b="0" lang="en-US" sz="20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Підшлункова залоза – одна з найважливіших залоз травного тракту, яка впливає не тільки на травлення, але й на інші сторони метаболізму. Вона має зовнішню та внутрішню секрецію. Зовнішня секреція полягає у виділенні у дванадцятипалу кишку панкреатичного соку, який відіграє важливу роль у процесі травлення. Секрет ПЗ виділяється в часточках паренхіми в кількості 30 – 50 мл/год, що складає 1,5 – 2 л на добу, та відіграє важливу роль у процесі травлення. Панкреатичний сік має лужний характер (рН 8,3-8,9) та суворе співвідношення аніонів (155 ммоль) і катіонів (СО</a:t>
            </a:r>
            <a:r>
              <a:rPr b="0" lang="ru-RU" sz="2000" spc="-1" strike="noStrike" baseline="-25000">
                <a:solidFill>
                  <a:srgbClr val="ffffff"/>
                </a:solidFill>
                <a:latin typeface="Cambria"/>
              </a:rPr>
              <a:t>2</a:t>
            </a:r>
            <a:r>
              <a:rPr b="0" lang="ru-RU" sz="2000" spc="-1" strike="noStrike">
                <a:solidFill>
                  <a:srgbClr val="ffffff"/>
                </a:solidFill>
                <a:latin typeface="Cambria"/>
              </a:rPr>
              <a:t> карбонатів, бікарбонатів та хлоридів).</a:t>
            </a:r>
            <a:endParaRPr b="0" lang="en-US" sz="20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Виділення його стимулюється та регулюється нейрогуморальним шляхом: 1) блукаючим та симпатичним нервами; 2) гуморально: а) соляною кислотою шлункового соку; б) хімічними медіаторами – секретином та панкреозиміном, які виробляються в кишечнику.</a:t>
            </a:r>
            <a:endParaRPr b="0" lang="en-US" sz="20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Механізм панкреатичної секреції подвійний – нервовий та гуморальний, діють одночасно та синергічно.</a:t>
            </a:r>
            <a:endParaRPr b="0" lang="en-US" sz="2000" spc="-1" strike="noStrike">
              <a:solidFill>
                <a:srgbClr val="ffffff"/>
              </a:solidFill>
              <a:latin typeface="Cambria"/>
            </a:endParaRPr>
          </a:p>
          <a:p>
            <a:pPr marL="274320" indent="-2743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mbria"/>
              </a:rPr>
              <a:t>Існують три фази панкреатичної секреції: мозкова, шлункова та інтестинальна.</a:t>
            </a:r>
            <a:endParaRPr b="0" lang="en-US" sz="2000" spc="-1" strike="noStrike">
              <a:solidFill>
                <a:srgbClr val="ffffff"/>
              </a:solidFill>
              <a:latin typeface="Cambria"/>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1T11:37:31Z</dcterms:created>
  <dc:creator>User</dc:creator>
  <dc:description/>
  <dc:language>en-US</dc:language>
  <cp:lastModifiedBy>Сервис</cp:lastModifiedBy>
  <dcterms:modified xsi:type="dcterms:W3CDTF">2020-06-04T13:53:23Z</dcterms:modified>
  <cp:revision>87</cp:revision>
  <dc:subject/>
  <dc:title>Acute appendicitis</dc:title>
</cp:coreProperties>
</file>